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A598041-61EF-4D6B-96BE-FE39912C7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o implement EDI using CrossWorlds TPI/EDI DH but it was cumbersome beca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ansaction logging from the package (though TPI will log the raw mess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997 generation for inbound messages. Must code this by h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 DH is not EDI specification aware. Must build the structure of the messages, the business objects, using Spec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lidation of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BOs, one for each segment. Lots of Maps one for each segment. A very cluttered ICS. Makes management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Hub and Spoke con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adaptor (adap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layer in the ad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 the GBO and being able to send the same data to say the MES as well as the ERP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the same inte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Transactions: 830 in, 870 out, 850 out, 860 out, 855 in, 856 in, 810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work of the EDI Protocol collab is now done (much better) in the WDI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0160" cy="34578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2 running on the WB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Q Series 5.3 running on the WDI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naming convention is from the perspective of WDI. So EDI_IN is EDI message inbound to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E459E-8475-4B09-980C-7180AF135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069F-B2AE-4215-B8A1-F637960B0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0EF04-43A4-497E-BA72-1262246F8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B839-5E03-4827-897B-DDFE9DD3A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5DA54-BB86-4901-8EFE-BB1D3EC0E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0708-2DCD-4E30-B8E3-B7B095106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E844E-DF85-4502-93BA-6DC22502E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7EE8-D7B3-4B05-B62F-E7F5DEC8F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78B5-4E3B-4497-B4F5-6F3B879CE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BDC1C-3FC2-4C7B-A0ED-98CF1E563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90F9D-F55B-445E-A1D3-9B6AAF4A6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55390-34EA-43A2-AA8D-D6E14B98FF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se Study: Implementing WDI with WBI at Quantu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29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EEAB-078A-49ED-A3A2-007FC209DAD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87360" y="2084040"/>
            <a:ext cx="6548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Study: Integrating WDI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BI at Quant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ion</a:t>
            </a:r>
            <a:br>
              <a:rPr sz="2000"/>
            </a:br>
            <a:br>
              <a:rPr sz="20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rk Lutz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Hal Rend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311328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Hardwa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evelopment, Stage and Production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Production and Stage environmen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nvironment is a Veritas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Sun E4500 nodes in each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node has 8 processors, 4 gigabytes of physical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Development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Sun E4500 with 4 processors and 4 gigabytes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Production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paq DL360s with 1.2 Ghz processor and 1 gigabyte of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Development and Stage environments share the same hardware as 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Softwa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erver – WDI 3.2 SP6 for Windows 2000, standard set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erver – ICS 4.1.0.2 using Oracle 8.1.7 for repository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– Version 5.2 on the WBI side and 5.3 on the WD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Application Integration – Various WBI ada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s Oracle Applications, Vantive, Clarify,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VAN Integration – Custom Perl scripts to encrypt/decrypt messages  and transfer them to/from the V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used because of the need to route messages between legacy applications, TPI, and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61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65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ing and logging reception of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ng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ng/sending Functional Acknowled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EDI messages to XM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ener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GBO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XML GBO’s to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ing/logging EDI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 receipt of Functional Acknowledgement in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 Separate EDI concerns from Business Process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nctional Allocation in the Architecture - WB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received data, possibly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-in or modify data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XML GBO’s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pplication-specific business objec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ASBO’s) and update back-end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rt EDI data to human-readable form for notification or archi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bound EDI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 triggering events, create ASBO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ASBO’s to XML GBO’s for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e data in GBO’s, filling-in or modifying as needed through look-ups to enterpris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282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286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43120" y="19303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20920" y="197316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2560" y="203364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78840" y="24829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684840" y="3506760"/>
            <a:ext cx="1811160" cy="914400"/>
            <a:chOff x="6684840" y="3506760"/>
            <a:chExt cx="1811160" cy="914400"/>
          </a:xfrm>
        </p:grpSpPr>
        <p:sp>
          <p:nvSpPr>
            <p:cNvPr id="303" name=""/>
            <p:cNvSpPr/>
            <p:nvPr/>
          </p:nvSpPr>
          <p:spPr>
            <a:xfrm>
              <a:off x="6684840" y="350676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32720" y="3517920"/>
              <a:ext cx="86328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348160" y="2776680"/>
            <a:ext cx="863640" cy="1996560"/>
            <a:chOff x="5348160" y="2776680"/>
            <a:chExt cx="863640" cy="1996560"/>
          </a:xfrm>
        </p:grpSpPr>
        <p:sp>
          <p:nvSpPr>
            <p:cNvPr id="306" name=""/>
            <p:cNvSpPr/>
            <p:nvPr/>
          </p:nvSpPr>
          <p:spPr>
            <a:xfrm>
              <a:off x="5348160" y="387000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48160" y="2776680"/>
              <a:ext cx="863640" cy="90288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395520" y="2801880"/>
            <a:ext cx="1352520" cy="2049480"/>
            <a:chOff x="3395520" y="2801880"/>
            <a:chExt cx="1352520" cy="2049480"/>
          </a:xfrm>
        </p:grpSpPr>
        <p:sp>
          <p:nvSpPr>
            <p:cNvPr id="309" name=""/>
            <p:cNvSpPr/>
            <p:nvPr/>
          </p:nvSpPr>
          <p:spPr>
            <a:xfrm>
              <a:off x="3884400" y="394812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X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95520" y="28018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841320" y="3032280"/>
            <a:ext cx="2643120" cy="1938240"/>
            <a:chOff x="841320" y="3032280"/>
            <a:chExt cx="2643120" cy="1938240"/>
          </a:xfrm>
        </p:grpSpPr>
        <p:sp>
          <p:nvSpPr>
            <p:cNvPr id="312" name=""/>
            <p:cNvSpPr/>
            <p:nvPr/>
          </p:nvSpPr>
          <p:spPr>
            <a:xfrm>
              <a:off x="841320" y="3032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2db6b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0800" y="4067280"/>
              <a:ext cx="863640" cy="903240"/>
            </a:xfrm>
            <a:prstGeom prst="foldedCorner">
              <a:avLst>
                <a:gd name="adj" fmla="val 28310"/>
              </a:avLst>
            </a:prstGeom>
            <a:solidFill>
              <a:srgbClr val="008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B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8" dur="1" fill="hold"/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In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 downloads EDI messages from VAN and sends them to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maps EDI to XML GBO (Generic Business Objec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sends GBO to WBI via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MQSeries adaptor picks up GBO and sends to subscribing collaborations (executable business processes)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map GBO to appropriate ASBO (Application-Specific Business 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s send ASBO to destination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603360" y="1397160"/>
            <a:ext cx="7971840" cy="4394160"/>
            <a:chOff x="603360" y="1397160"/>
            <a:chExt cx="7971840" cy="4394160"/>
          </a:xfrm>
        </p:grpSpPr>
        <p:sp>
          <p:nvSpPr>
            <p:cNvPr id="317" name=""/>
            <p:cNvSpPr/>
            <p:nvPr/>
          </p:nvSpPr>
          <p:spPr>
            <a:xfrm>
              <a:off x="603360" y="1397160"/>
              <a:ext cx="14364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3160" y="1397160"/>
              <a:ext cx="237780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cwprod.queue.manager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57760" y="1397160"/>
              <a:ext cx="2017440" cy="439416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Server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QM_wdi1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978080" y="2171880"/>
              <a:ext cx="1531440" cy="3133800"/>
              <a:chOff x="4978080" y="2171880"/>
              <a:chExt cx="1531440" cy="3133800"/>
            </a:xfrm>
          </p:grpSpPr>
          <p:sp>
            <p:nvSpPr>
              <p:cNvPr id="321" name=""/>
              <p:cNvSpPr/>
              <p:nvPr/>
            </p:nvSpPr>
            <p:spPr>
              <a:xfrm>
                <a:off x="4978080" y="2171880"/>
                <a:ext cx="1531440" cy="630000"/>
              </a:xfrm>
              <a:prstGeom prst="rightArrow">
                <a:avLst>
                  <a:gd name="adj1" fmla="val 50000"/>
                  <a:gd name="adj2" fmla="val 607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8080" y="4675320"/>
                <a:ext cx="1531440" cy="630360"/>
              </a:xfrm>
              <a:prstGeom prst="rightArrow">
                <a:avLst>
                  <a:gd name="adj1" fmla="val 50000"/>
                  <a:gd name="adj2" fmla="val 60737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I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89960" y="2897280"/>
                <a:ext cx="1505880" cy="592200"/>
              </a:xfrm>
              <a:prstGeom prst="leftArrow">
                <a:avLst>
                  <a:gd name="adj1" fmla="val 50000"/>
                  <a:gd name="adj2" fmla="val 63571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EDI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89960" y="3940200"/>
                <a:ext cx="1505880" cy="628560"/>
              </a:xfrm>
              <a:prstGeom prst="leftArrow">
                <a:avLst>
                  <a:gd name="adj1" fmla="val 50000"/>
                  <a:gd name="adj2" fmla="val 59894"/>
                </a:avLst>
              </a:prstGeom>
              <a:solidFill>
                <a:srgbClr val="7889fb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XML_OU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101600" y="2143440"/>
              <a:ext cx="1763280" cy="619200"/>
            </a:xfrm>
            <a:prstGeom prst="rightArrow">
              <a:avLst>
                <a:gd name="adj1" fmla="val 50000"/>
                <a:gd name="adj2" fmla="val 7119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91880" y="2851560"/>
              <a:ext cx="1750680" cy="591840"/>
            </a:xfrm>
            <a:prstGeom prst="leftArrow">
              <a:avLst>
                <a:gd name="adj1" fmla="val 50000"/>
                <a:gd name="adj2" fmla="val 73951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crypted FT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35080" y="229896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Fetch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8840" y="2992680"/>
              <a:ext cx="1584000" cy="289080"/>
            </a:xfrm>
            <a:prstGeom prst="roundRect">
              <a:avLst>
                <a:gd name="adj" fmla="val 16667"/>
              </a:avLst>
            </a:prstGeom>
            <a:solidFill>
              <a:srgbClr val="fc6b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ndVAN.p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3080" y="3775320"/>
              <a:ext cx="776160" cy="1724040"/>
            </a:xfrm>
            <a:custGeom>
              <a:avLst/>
              <a:gdLst>
                <a:gd name="textAreaLeft" fmla="*/ 37800 w 776160"/>
                <a:gd name="textAreaRight" fmla="*/ 738360 w 776160"/>
                <a:gd name="textAreaTop" fmla="*/ 37800 h 1724040"/>
                <a:gd name="textAreaBottom" fmla="*/ 1686240 h 1724040"/>
              </a:gdLst>
              <a:ahLst/>
              <a:rect l="textAreaLeft" t="textAreaTop" r="textAreaRight" b="textAreaBottom"/>
              <a:pathLst>
                <a:path w="21600" h="47967">
                  <a:moveTo>
                    <a:pt x="3600" y="0"/>
                  </a:moveTo>
                  <a:arcTo wR="3600" hR="3600" stAng="16200000" swAng="-5400000"/>
                  <a:lnTo>
                    <a:pt x="0" y="44367"/>
                  </a:lnTo>
                  <a:arcTo wR="3600" hR="3600" stAng="10800000" swAng="-5400000"/>
                  <a:lnTo>
                    <a:pt x="18000" y="479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BI  IC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97520" y="2294280"/>
              <a:ext cx="1604520" cy="2998800"/>
            </a:xfrm>
            <a:custGeom>
              <a:avLst/>
              <a:gdLst>
                <a:gd name="textAreaLeft" fmla="*/ 78120 w 1604520"/>
                <a:gd name="textAreaRight" fmla="*/ 1526400 w 1604520"/>
                <a:gd name="textAreaTop" fmla="*/ 78120 h 2998800"/>
                <a:gd name="textAreaBottom" fmla="*/ 2920680 h 2998800"/>
              </a:gdLst>
              <a:ahLst/>
              <a:rect l="textAreaLeft" t="textAreaTop" r="textAreaRight" b="textAreaBottom"/>
              <a:pathLst>
                <a:path w="21600" h="40366">
                  <a:moveTo>
                    <a:pt x="3600" y="0"/>
                  </a:moveTo>
                  <a:arcTo wR="3600" hR="3600" stAng="16200000" swAng="-5400000"/>
                  <a:lnTo>
                    <a:pt x="0" y="36766"/>
                  </a:lnTo>
                  <a:arcTo wR="3600" hR="3600" stAng="10800000" swAng="-5400000"/>
                  <a:lnTo>
                    <a:pt x="18000" y="403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WDI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73440" y="3888000"/>
              <a:ext cx="1193400" cy="1424160"/>
            </a:xfrm>
            <a:custGeom>
              <a:avLst/>
              <a:gdLst>
                <a:gd name="textAreaLeft" fmla="*/ 57960 w 1193400"/>
                <a:gd name="textAreaRight" fmla="*/ 1135440 w 1193400"/>
                <a:gd name="textAreaTop" fmla="*/ 57960 h 1424160"/>
                <a:gd name="textAreaBottom" fmla="*/ 1366200 h 1424160"/>
              </a:gdLst>
              <a:ahLst/>
              <a:rect l="textAreaLeft" t="textAreaTop" r="textAreaRight" b="textAreaBottom"/>
              <a:pathLst>
                <a:path w="21600" h="25775">
                  <a:moveTo>
                    <a:pt x="3600" y="0"/>
                  </a:moveTo>
                  <a:arcTo wR="3600" hR="3600" stAng="16200000" swAng="-5400000"/>
                  <a:lnTo>
                    <a:pt x="0" y="22175"/>
                  </a:lnTo>
                  <a:arcTo wR="3600" hR="3600" stAng="10800000" swAng="-5400000"/>
                  <a:lnTo>
                    <a:pt x="18000" y="257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132e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Q adap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-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90720" y="27432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0040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281952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86600" y="251460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8098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44956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4760" y="3948120"/>
            <a:ext cx="86328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20800" y="4067280"/>
            <a:ext cx="863640" cy="903240"/>
          </a:xfrm>
          <a:prstGeom prst="foldedCorner">
            <a:avLst>
              <a:gd name="adj" fmla="val 28310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0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ecution Model – Outb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aptor detects triggering event, possibly via a bridge, and creates an ASBO from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or maps ASBO to GBO and sends to subscribing collaborations on WB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llaboration validates and fills in data as needed, and sends GBO to destination adaptors, i.e. WDI MQSeries adap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picks up GBO, maps it to EDI, and queues it for trans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 picks up EDI message and sends it to the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- Iterativ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requirements gath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Guidelines for involved messages 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&amp; Desig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rossWorlds Integration Architecture Diagra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AD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Use Case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ases and CIAD reviewed, revised 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-Level data requirements ver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o We Are and What We D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leader in data protection products and services, and the world's largest supplier of computer tape dr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include HP, Dell, Hitachi Data Systems, IBM, and Sun Micro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than 30 domestic and 35 international distrib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 Lutze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ark.lutze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. Hal Render –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al.render@quantu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in the eBusiness group at Quantum and have two du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nterprise Application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siness-to-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2B) integration, primarily using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457200"/>
          <a:ext cx="8999640" cy="56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899964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objects (including XML Document Type Definition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rid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ata translation scripts)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DI and WBI maps and End-to-End Mapping Document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collaboration templates and collaboration objects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adaptors created/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dges, maps, collaborations, and adaptors unit-te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to-End Integration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eptance Testing (UA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ment Process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/WDI code deployed to production 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configuration of bridges, adaptors, and collaboration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components activated and supporting jobs schedu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ment monito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bridges and WBI adaptors flag connection or data err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BI ICS flags processing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 scripts monitor system logs and some system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VAN monitors problems with EDI messages 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s and WBI components generate notification emails to Quantum EDI Administrators when they detect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Operations Support (cont.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suspends processing failures in the ICS as “failed flow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WBI administrator troubleshoots the prob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BI tools allow WBI administrators to browse failed flows, read errors messages, look at the state of in-process business objects, make code changes, and restart or discard the failed flow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are usually corrected and the affected flows are re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asionally flows are discarded and the messages are corrected and resubmitted from the source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Lessons Learn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BI 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ributed system has pros and c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a good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e existing work whenever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 Message Form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Languages (Java, XML, Per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ment Artifacts (Processes, Component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new artifacts to extend or fill gaps in existing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) Application bridges, Formatted Data 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I to the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single gateway to the outsid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 general XML Gateway to our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enterprise application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RosettaNet or other standard XML B2B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ing towards XML as the standard interface data format for inter-enterprise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 a Quantum EDI 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users/customers with intranet/extranet access to EDI system status and transac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5346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: Chose CrossWorlds Software for EAI and B2B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RosettaNet pilots involving WebMethods, Viacore, and later Cyclone Commerce to connect directly to 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initial production EAI implem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-2: Migration of EDI legacy infrastructure to CrossWor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ed corporate EDI responsibilities, and found that our legacy EDI translator (AMTrix) was end-of-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lt CrossWorlds with it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ading Partner Inter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PI) and EDI Data-handler components looked promising for EDI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CrossWorlds to implement EDI 850, 820, 823, 810 and other EAI and B2B implementations, including support for major ERP up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d various issues, and came to the conclusion that CrossWorlds by itself is not an ideal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AI – Hub and Spoke Architecture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49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53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696680" y="1865880"/>
            <a:ext cx="2233080" cy="1624320"/>
            <a:chOff x="1696680" y="1865880"/>
            <a:chExt cx="2233080" cy="1624320"/>
          </a:xfrm>
        </p:grpSpPr>
        <p:sp>
          <p:nvSpPr>
            <p:cNvPr id="157" name=""/>
            <p:cNvSpPr/>
            <p:nvPr/>
          </p:nvSpPr>
          <p:spPr>
            <a:xfrm rot="17983200">
              <a:off x="2252520" y="2309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7983200">
              <a:off x="1888920" y="198756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7983200">
              <a:off x="3177360" y="2562120"/>
              <a:ext cx="430920" cy="990720"/>
            </a:xfrm>
            <a:prstGeom prst="upDownArrow">
              <a:avLst>
                <a:gd name="adj1" fmla="val 50000"/>
                <a:gd name="adj2" fmla="val 45769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61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65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69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ossWorlds with TPI and EDI Data Handler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175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179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186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190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194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243828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25909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76720"/>
            <a:ext cx="1295280" cy="4572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 - G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3276720"/>
            <a:ext cx="99036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4" dur="1" fill="hold"/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ow We Came To Use WDI/WBI – Part 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-3:  WDI to the Resc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purchased CrossWorlds and renamed produc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bSphere Business 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BI). IBM postponed enhancements to TPI and EDI data-handler components.  We learned of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 outsourced its manufacturing, which required us to implement many new EDI transactions quickly – enter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 1-week trial to prove that we could get WDI running in our environment and have it communicate with WBI.  Mostly this involved installing the software and configuring MQSe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d another 1-week trial to expand on prior work and demonstrate functionality of WDI.  Did 1 inbound and 1 outbound EDI transa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d a 1-Week onsite training/mentoring session with WDI consult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&amp; deployed 7 new EDI transactions in 6 weeks using W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DI and WBI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103560"/>
            <a:ext cx="1676160" cy="811080"/>
          </a:xfrm>
          <a:prstGeom prst="ellipse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14800" y="1143000"/>
            <a:ext cx="914400" cy="1960200"/>
            <a:chOff x="4114800" y="1143000"/>
            <a:chExt cx="914400" cy="1960200"/>
          </a:xfrm>
        </p:grpSpPr>
        <p:sp>
          <p:nvSpPr>
            <p:cNvPr id="207" name=""/>
            <p:cNvSpPr/>
            <p:nvPr/>
          </p:nvSpPr>
          <p:spPr>
            <a:xfrm>
              <a:off x="4114800" y="16160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14800" y="114300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rac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R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43400" y="222480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195160" y="1395720"/>
            <a:ext cx="1684440" cy="2016360"/>
            <a:chOff x="5195160" y="1395720"/>
            <a:chExt cx="1684440" cy="2016360"/>
          </a:xfrm>
        </p:grpSpPr>
        <p:sp>
          <p:nvSpPr>
            <p:cNvPr id="211" name=""/>
            <p:cNvSpPr/>
            <p:nvPr/>
          </p:nvSpPr>
          <p:spPr>
            <a:xfrm rot="2095200">
              <a:off x="5602320" y="199044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2095200">
              <a:off x="5815080" y="1584360"/>
              <a:ext cx="914400" cy="81108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RM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2095200">
              <a:off x="5402880" y="2473560"/>
              <a:ext cx="485640" cy="878400"/>
            </a:xfrm>
            <a:prstGeom prst="upDownArrow">
              <a:avLst>
                <a:gd name="adj1" fmla="val 50000"/>
                <a:gd name="adj2" fmla="val 36007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7983200">
            <a:off x="2251800" y="2308680"/>
            <a:ext cx="811080" cy="685800"/>
          </a:xfrm>
          <a:prstGeom prst="diamond">
            <a:avLst/>
          </a:prstGeom>
          <a:solidFill>
            <a:srgbClr val="2db6b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7983200">
            <a:off x="1888200" y="1986120"/>
            <a:ext cx="811080" cy="914400"/>
          </a:xfrm>
          <a:prstGeom prst="rect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7983200">
            <a:off x="3177360" y="2561040"/>
            <a:ext cx="430200" cy="990360"/>
          </a:xfrm>
          <a:prstGeom prst="upDownArrow">
            <a:avLst>
              <a:gd name="adj1" fmla="val 50000"/>
              <a:gd name="adj2" fmla="val 45828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14920" y="3567240"/>
            <a:ext cx="1922760" cy="1936080"/>
            <a:chOff x="2014920" y="3567240"/>
            <a:chExt cx="1922760" cy="1936080"/>
          </a:xfrm>
        </p:grpSpPr>
        <p:sp>
          <p:nvSpPr>
            <p:cNvPr id="218" name=""/>
            <p:cNvSpPr/>
            <p:nvPr/>
          </p:nvSpPr>
          <p:spPr>
            <a:xfrm flipV="1" rot="2638800">
              <a:off x="2473560" y="42732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 rot="2638800">
              <a:off x="3214800" y="361224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638800">
              <a:off x="2168280" y="448776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N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114800" y="3914280"/>
            <a:ext cx="914400" cy="2028960"/>
            <a:chOff x="4114800" y="3914280"/>
            <a:chExt cx="914400" cy="2028960"/>
          </a:xfrm>
        </p:grpSpPr>
        <p:sp>
          <p:nvSpPr>
            <p:cNvPr id="222" name=""/>
            <p:cNvSpPr/>
            <p:nvPr/>
          </p:nvSpPr>
          <p:spPr>
            <a:xfrm flipV="1">
              <a:off x="4114800" y="4793400"/>
              <a:ext cx="914400" cy="6084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343400" y="3913920"/>
              <a:ext cx="485640" cy="878760"/>
            </a:xfrm>
            <a:prstGeom prst="upDownArrow">
              <a:avLst>
                <a:gd name="adj1" fmla="val 50000"/>
                <a:gd name="adj2" fmla="val 3602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5131800"/>
              <a:ext cx="914400" cy="8114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H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224320" y="3503880"/>
            <a:ext cx="2297160" cy="1655640"/>
            <a:chOff x="5224320" y="3503880"/>
            <a:chExt cx="2297160" cy="1655640"/>
          </a:xfrm>
        </p:grpSpPr>
        <p:sp>
          <p:nvSpPr>
            <p:cNvPr id="226" name=""/>
            <p:cNvSpPr/>
            <p:nvPr/>
          </p:nvSpPr>
          <p:spPr>
            <a:xfrm flipV="1" rot="17925600">
              <a:off x="6085440" y="4001400"/>
              <a:ext cx="811440" cy="685800"/>
            </a:xfrm>
            <a:prstGeom prst="diamond">
              <a:avLst/>
            </a:prstGeom>
            <a:solidFill>
              <a:srgbClr val="2db6b3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 rot="17925600">
              <a:off x="5546520" y="3435120"/>
              <a:ext cx="430920" cy="990360"/>
            </a:xfrm>
            <a:prstGeom prst="upDownArrow">
              <a:avLst>
                <a:gd name="adj1" fmla="val 50000"/>
                <a:gd name="adj2" fmla="val 45752"/>
              </a:avLst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7925600">
              <a:off x="6519600" y="4126680"/>
              <a:ext cx="811440" cy="91440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752480" y="1828800"/>
            <a:ext cx="685800" cy="685800"/>
          </a:xfrm>
          <a:prstGeom prst="foldedCorner">
            <a:avLst>
              <a:gd name="adj" fmla="val 28310"/>
            </a:avLst>
          </a:prstGeom>
          <a:solidFill>
            <a:srgbClr val="2db6b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743200"/>
            <a:ext cx="990360" cy="53352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3276720"/>
            <a:ext cx="990720" cy="533160"/>
          </a:xfrm>
          <a:prstGeom prst="foldedCorner">
            <a:avLst>
              <a:gd name="adj" fmla="val 28310"/>
            </a:avLst>
          </a:prstGeom>
          <a:solidFill>
            <a:srgbClr val="d1821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V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- Overvie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743200"/>
            <a:ext cx="3333600" cy="609480"/>
          </a:xfrm>
          <a:prstGeom prst="leftRightArrow">
            <a:avLst>
              <a:gd name="adj1" fmla="val 50000"/>
              <a:gd name="adj2" fmla="val 10888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mainfrm"/>
          <p:cNvSpPr/>
          <p:nvPr/>
        </p:nvSpPr>
        <p:spPr>
          <a:xfrm>
            <a:off x="1628640" y="1552680"/>
            <a:ext cx="1605240" cy="11793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mainfrm"/>
          <p:cNvSpPr/>
          <p:nvPr/>
        </p:nvSpPr>
        <p:spPr>
          <a:xfrm>
            <a:off x="1628640" y="4232160"/>
            <a:ext cx="1605240" cy="11797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89160" y="3048120"/>
            <a:ext cx="554040" cy="1145880"/>
          </a:xfrm>
          <a:prstGeom prst="upDownArrow">
            <a:avLst>
              <a:gd name="adj1" fmla="val 50000"/>
              <a:gd name="adj2" fmla="val 41173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eri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0720" y="1066680"/>
            <a:ext cx="41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BI (CrossWorlds) Server Clu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4800" y="175248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 (IC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0040" y="449568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osito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4480" y="27432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541008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n E45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633000" y="1752480"/>
            <a:ext cx="1954800" cy="2882880"/>
            <a:chOff x="6633000" y="1752480"/>
            <a:chExt cx="1954800" cy="2882880"/>
          </a:xfrm>
        </p:grpSpPr>
        <p:sp>
          <p:nvSpPr>
            <p:cNvPr id="243" name="tower"/>
            <p:cNvSpPr/>
            <p:nvPr/>
          </p:nvSpPr>
          <p:spPr>
            <a:xfrm>
              <a:off x="7086600" y="2286000"/>
              <a:ext cx="904680" cy="1809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7520" y="17524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33000" y="4267080"/>
              <a:ext cx="195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q ProLia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5299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vironment – MQ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2590920"/>
            <a:ext cx="3943080" cy="485640"/>
          </a:xfrm>
          <a:prstGeom prst="leftRightArrow">
            <a:avLst>
              <a:gd name="adj1" fmla="val 50000"/>
              <a:gd name="adj2" fmla="val 161635"/>
            </a:avLst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Q 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85560" y="1143000"/>
            <a:ext cx="2575080" cy="4667400"/>
            <a:chOff x="385560" y="1143000"/>
            <a:chExt cx="2575080" cy="4667400"/>
          </a:xfrm>
        </p:grpSpPr>
        <p:sp>
          <p:nvSpPr>
            <p:cNvPr id="249" name="mainfrm"/>
            <p:cNvSpPr/>
            <p:nvPr/>
          </p:nvSpPr>
          <p:spPr>
            <a:xfrm>
              <a:off x="826920" y="1655640"/>
              <a:ext cx="1604880" cy="11793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080" y="11430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BI Server Clu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5560" y="2973240"/>
              <a:ext cx="25750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wprod.queue.manag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630840" y="990720"/>
            <a:ext cx="2035440" cy="4820040"/>
            <a:chOff x="6630840" y="990720"/>
            <a:chExt cx="2035440" cy="4820040"/>
          </a:xfrm>
        </p:grpSpPr>
        <p:sp>
          <p:nvSpPr>
            <p:cNvPr id="253" name="tower"/>
            <p:cNvSpPr/>
            <p:nvPr/>
          </p:nvSpPr>
          <p:spPr>
            <a:xfrm>
              <a:off x="7086600" y="1447920"/>
              <a:ext cx="904680" cy="14158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36480" y="99072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DI 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30840" y="2973600"/>
              <a:ext cx="20354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 Manager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QM_wdi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mote Queue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ML_O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Hal Render, Mark Lutze</dc:creator>
  <dc:description/>
  <dc:language>en-US</dc:language>
  <cp:lastModifiedBy>IBM_USER</cp:lastModifiedBy>
  <dcterms:modified xsi:type="dcterms:W3CDTF">2003-09-17T17:43:24Z</dcterms:modified>
  <cp:revision>944</cp:revision>
  <dc:subject/>
  <dc:title>Case Study: WDI/WBI at Quantum</dc:title>
</cp:coreProperties>
</file>