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3B63-6074-43B3-AFC0-631C61855D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8B81A-B3E3-4BDB-BF09-D711EA9A8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90E5-4805-48B8-9293-76A12BCE4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906BA-D46B-4BD7-9D00-1CA1BE20D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7FDA-2365-40E0-8C01-3079ECE96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4CCA-F3D2-47E2-B65F-1815C5D0E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DE7C-5C38-4018-9106-CCB018B3C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0F831-4D21-49AA-9630-48DAD0B7A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AAF2-AD8E-4791-B13C-8AF7C5465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8AF0-D7C9-4F20-8846-12A82D0661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44BD-13D8-4393-9094-24A32581A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EA42-57F8-47D7-8BD8-536CB1B25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7F9F-2C8D-4C1E-88C0-2000C827EB9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896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Life - Tips and Tricks 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58120" y="3009960"/>
            <a:ext cx="100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WHERE cl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ny WHERE clauses can be attached to on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can be used only once in a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WHERE clauses can be used to process multiple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WHERE keywords must be preceded by values within parenthe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 spaces can exist between the keyword and the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PNICKN(ABF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NG cl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ke the WHER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n only be included once in the PERFORM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ENVELOPE DATA EX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NG INTERCHANGE(Y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TCTLNO(000456789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tatement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comments to the PERFORM statement syn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Company ABC translation  &lt;&lt;&lt;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WHERE TPNICKN(CS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TRXDATE(09/15/0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      &gt;&gt;&gt;   Company ABC translation  &lt;&lt;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neric command for executing commands in a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vokes the command chaining fe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OCESS and RECEIVE AND PROCESS are the only commands that invoke command ch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FILEID(APDATA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RRFILTER vari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lter and eliminate warn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GNORE to report all errors regardless of instructions in the 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1-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TO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DIERRFILTER(IGNOR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391760"/>
            <a:ext cx="7348680" cy="42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 comm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late data in any format to any other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 data transformation maps to translate the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INFILE(APDATA01) INTYPE(M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TAX(X) OUTFILE(APOU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SYNTAX is only used with the TRANSFORM comman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 - Application data, E -  EDI data, X - XM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YPE is only used with the TRANSFORM command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Q - MQSeries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software updates that need to be made in preparation for migrat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for zOS runs on zOS version 1 or later with Transaction Server (CICS) for OS/390 version 1.3 or later, or Transaction Server for zOS version 2.2, DB2 for MVS or OS/390 version 7, MQSeries version 5.3 and XML Toolkit version 1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objects get migrated going from DI 3.1 to WDI 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ll meta data objects (standards, data formats, and maps) get converted and migrated.  Profiles get migrated as do control strings.  Operational data does not get migr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will my Host maps look lik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Host maps will show up in the Send and Receive tabs of WDI Client V3.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is migration accomplish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Migration is a set of steps in the installation procedure.  The migration is accomplished via WDI Export and Import facilities.  A conversion flag is used to convert “host” format objects to the common database structure of WDI V3.2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test the migrated objec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, test the translator because the control string was migrated as is from the host platform.  A recompilation of the map should yield a different control string - but provide the same resul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new features will be available after migr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WDI V3.2 offers any-to-any mapping and more visible ways of viewing and maintaining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s VSAM support i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VSAM is not supported.  The import process moves the data to DB2 tables in WDI V3.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at happens if I do not migrate my ma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ou do not want to execute Send/Receive maps in WDI V3.2, and that you want to rewrite your maps using the new any-to-any mapper.  A recommended approach is that you consider migration and then rewrite the maps at your conveni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run XML translation in CICS on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DTC maps run in C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Migration from DI V3.1 to WDI V3.2  for zOS (www.ibm.com/websphere/datainterchange)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150560"/>
            <a:ext cx="73486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Send/Receive XML maps run in C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In WDI V3.2 the XML preprocessor is supported in CICS.  Also data transformation maps can be used to translate XML da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JCL changes for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Yes. The any-to-any translator uses the TRANSFORM verb of the PERFORM command.  The XMLDICT and XMLDTDS keywords point to partitioned datasets (PDS) of XML o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re there any changes to the DI translator API between DI V3.1 and WDI V3.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     Answer: No. The interface to EDIFFUT and EDIFFUS is the sa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o I need to change any of the PERFORM comm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No. There are some additional options to existing commands and there is a new TRANSFORM command you may want to consi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n I inter operate migrated WDI V3.2, WDI V3.2 zOS, with  a WDI V3.2 AIX/Windows or can I develop on AIX and deploy on zOS, export from one to the oth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swer: Absolutely. In addition, a single WDI Client allows a window into all systems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of Command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File Definition (INPUTQ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File Definition (PRT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 dat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Language Syn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DI V3.1 to WDI V3.2 - Questions and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Design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298160"/>
            <a:ext cx="734868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in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PUTQ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output file or MQ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RTFILE servi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command chain that will connect the input an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ERFORM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st use PERFORM process to initiate command chain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MQ queue (INPUTQ) with triggering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INPUTQ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INPUTQ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 AND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FILE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FMTID(ADF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WTEST(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INPUT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In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Q - in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Common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f needed, define path to other files (Tracking, Exception, Work File, Report File, Query Fi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EXC\EXCEPT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WRK\WORK.t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tup flat file (PRTFILE) under “Network Profiles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RTFILE  as a “Service Profile” under “Network Profile” 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dd PERFORM statement to Service Profile (PRTFILE)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WH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ID(CLASSTE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ID(PRTF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EARFILE(N)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Output for Command Chains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FILE - output file definition 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 path to PRTFILE under the “Input Files” t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fined path examp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\WDIServer32\runtime\PRT\PRTFILE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Chain Data Flow Diagram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090440" y="944640"/>
          <a:ext cx="6747120" cy="49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944640"/>
                    <a:ext cx="674712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DI V3.2 - Command Language Syntax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699920"/>
            <a:ext cx="73486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PERFORM stat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is handled and process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ach PERFORM syntax is handled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ubsequent PERFORM statement will not be process, if a non-zero condition occurred in the prior PERFORM state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TRANS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S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9-09T17:35:21Z</cp:lastPrinted>
  <dcterms:modified xsi:type="dcterms:W3CDTF">2003-09-17T17:52:03Z</dcterms:modified>
  <cp:revision>912</cp:revision>
  <dc:subject/>
  <dc:title>IBM Software Group</dc:title>
</cp:coreProperties>
</file>