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929040" y="-360"/>
            <a:ext cx="300672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6352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929040" y="8758080"/>
            <a:ext cx="3006720" cy="4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CE5BCE-BE77-4BE4-AF6A-0F6423EF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(WBC) will typically be outside of the fire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lation/Transformation Software address 8 of the 14 CIO prior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3520" y="68904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25560" y="4381200"/>
            <a:ext cx="5084640" cy="414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Pre-Flight Plan Checklist = Project scope defini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at it from a “goal” oriented vs task 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9C3D-A80E-44B1-A746-7272799A5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B832-7118-4D7A-9B53-8F6A567A6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9D8DA-828A-4639-8557-98F50E65E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5B05-77BE-414F-B1CE-CF3486032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EBDC-88BF-4C02-A225-038128D67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70AD-9C0C-44A0-94CD-59CE20481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3531-3854-4EA2-A0F7-722AEADD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DF52-83A2-4D48-BCD5-1A1D7DA01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5804-8290-47B8-A658-C92BCCE34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6279-1E24-4B12-97F9-438421448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8162-C731-443F-8533-AC0540198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AE4E-26EE-487A-BF5C-0EAB14E60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2E95-F981-4113-9784-A476FDF8615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1880" y="208404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DI 3.2 Migration Flight Plan</a:t>
            </a:r>
            <a:br>
              <a:rPr sz="3000"/>
            </a:b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obert Downey &amp; Randy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77120" y="3625920"/>
            <a:ext cx="17668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70 Terminal/Terminal Em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s w/real-time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lone DI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DataInterchange Administration Interfac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08000" y="1324080"/>
          <a:ext cx="684864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324080"/>
                    <a:ext cx="684864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62120" y="3784680"/>
          <a:ext cx="7646760" cy="18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784680"/>
                    <a:ext cx="764676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52640" y="1243080"/>
            <a:ext cx="734832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Conn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/SM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52640" y="13507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 – Taking Inventory…(continu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Operating Systems /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translatio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or Release/Versions/Processing (i.e. dev., test, prod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Trans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sions/Rele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repos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Interface Compon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Software /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 Integrated Business Applications – Operating Systems/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 volu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 form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4440" y="517320"/>
            <a:ext cx="8534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89040" y="4844880"/>
            <a:ext cx="587520" cy="9860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9040" y="4844880"/>
            <a:ext cx="587160" cy="986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9760" y="573732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stributed Appl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11880" y="3532320"/>
            <a:ext cx="1328760" cy="504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162840" y="4116240"/>
            <a:ext cx="677520" cy="555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6762600" y="4116240"/>
            <a:ext cx="677880" cy="555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7362720" y="4116240"/>
            <a:ext cx="677880" cy="5558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H="1" flipV="1">
            <a:off x="5113080" y="3386160"/>
            <a:ext cx="1181160" cy="4017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90240" y="31701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7840" y="4719600"/>
            <a:ext cx="106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ulti-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Cloud"/>
          <p:cNvSpPr/>
          <p:nvPr/>
        </p:nvSpPr>
        <p:spPr>
          <a:xfrm>
            <a:off x="6627960" y="861840"/>
            <a:ext cx="1896840" cy="123696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Cloud"/>
          <p:cNvSpPr/>
          <p:nvPr/>
        </p:nvSpPr>
        <p:spPr>
          <a:xfrm>
            <a:off x="6311880" y="1417680"/>
            <a:ext cx="1725480" cy="1123920"/>
          </a:xfrm>
          <a:prstGeom prst="pie">
            <a:avLst/>
          </a:prstGeom>
          <a:solidFill>
            <a:srgbClr val="00ff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80720" y="1625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DI Serv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16600" y="936720"/>
            <a:ext cx="169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siness Exchange Service (Interne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3320" y="2511000"/>
            <a:ext cx="1724040" cy="2192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3987720" y="4484520"/>
            <a:ext cx="1652760" cy="1105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07240" y="5521320"/>
            <a:ext cx="106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WDI Cli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Single Us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4683000">
            <a:off x="3430800" y="4083840"/>
            <a:ext cx="11149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15600" y="3532320"/>
            <a:ext cx="116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SO Session  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ICS Transac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4738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313080" y="1624680"/>
            <a:ext cx="2401920" cy="2112120"/>
            <a:chOff x="3313080" y="1624680"/>
            <a:chExt cx="2401920" cy="2112120"/>
          </a:xfrm>
        </p:grpSpPr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3313080" y="1636560"/>
              <a:ext cx="2401920" cy="21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9723800">
              <a:off x="3466080" y="2431800"/>
              <a:ext cx="97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OS/3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9814400">
              <a:off x="4833720" y="17726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z/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39520" y="2075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32ef7"/>
                  </a:solidFill>
                  <a:latin typeface="Times New Roman"/>
                </a:rPr>
                <a:t>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9761600">
              <a:off x="4704480" y="2993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21568200">
              <a:off x="4438800" y="2729880"/>
              <a:ext cx="583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MV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CIC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2db6b3"/>
                  </a:solidFill>
                  <a:latin typeface="Times New Roman"/>
                </a:rPr>
                <a:t>DB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9686000">
              <a:off x="3649680" y="3047040"/>
              <a:ext cx="23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Cloud"/>
          <p:cNvSpPr/>
          <p:nvPr/>
        </p:nvSpPr>
        <p:spPr>
          <a:xfrm>
            <a:off x="1063800" y="1552680"/>
            <a:ext cx="1500120" cy="977760"/>
          </a:xfrm>
          <a:prstGeom prst="pie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14520" y="2219400"/>
            <a:ext cx="973080" cy="1458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93680" y="1600200"/>
            <a:ext cx="14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S1, AS2, F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914400" y="3532320"/>
            <a:ext cx="2473200" cy="13125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889280" y="3605040"/>
            <a:ext cx="1649160" cy="12398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751400">
            <a:off x="1915560" y="4176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b6b3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838680" y="3677760"/>
            <a:ext cx="374400" cy="14590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140000">
            <a:off x="5132160" y="3344400"/>
            <a:ext cx="11588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2 Conn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nd-Al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1179400">
            <a:off x="5712480" y="2368440"/>
            <a:ext cx="90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edite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760840" y="1955880"/>
            <a:ext cx="215640" cy="487080"/>
            <a:chOff x="2760840" y="1955880"/>
            <a:chExt cx="215640" cy="487080"/>
          </a:xfrm>
        </p:grpSpPr>
        <p:sp>
          <p:nvSpPr>
            <p:cNvPr id="211" name=""/>
            <p:cNvSpPr/>
            <p:nvPr/>
          </p:nvSpPr>
          <p:spPr>
            <a:xfrm>
              <a:off x="2760840" y="1955880"/>
              <a:ext cx="215640" cy="31248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11960" y="2233440"/>
              <a:ext cx="113760" cy="209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56800" bIns="-265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 flipV="1">
            <a:off x="5719680" y="1428480"/>
            <a:ext cx="887400" cy="83340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216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219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222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234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10200" y="56419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252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253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367760" y="2871720"/>
            <a:ext cx="201600" cy="420480"/>
            <a:chOff x="7367760" y="2871720"/>
            <a:chExt cx="201600" cy="420480"/>
          </a:xfrm>
        </p:grpSpPr>
        <p:sp>
          <p:nvSpPr>
            <p:cNvPr id="265" name=""/>
            <p:cNvSpPr/>
            <p:nvPr/>
          </p:nvSpPr>
          <p:spPr>
            <a:xfrm>
              <a:off x="7367760" y="2871720"/>
              <a:ext cx="201600" cy="270000"/>
            </a:xfrm>
            <a:custGeom>
              <a:avLst/>
              <a:gdLst/>
              <a:ahLst/>
              <a:rect l="l" t="t" r="r" b="b"/>
              <a:pathLst>
                <a:path w="518" h="621">
                  <a:moveTo>
                    <a:pt x="194" y="0"/>
                  </a:moveTo>
                  <a:lnTo>
                    <a:pt x="204" y="23"/>
                  </a:lnTo>
                  <a:lnTo>
                    <a:pt x="278" y="76"/>
                  </a:lnTo>
                  <a:lnTo>
                    <a:pt x="321" y="114"/>
                  </a:lnTo>
                  <a:lnTo>
                    <a:pt x="334" y="154"/>
                  </a:lnTo>
                  <a:lnTo>
                    <a:pt x="334" y="184"/>
                  </a:lnTo>
                  <a:lnTo>
                    <a:pt x="354" y="165"/>
                  </a:lnTo>
                  <a:lnTo>
                    <a:pt x="361" y="143"/>
                  </a:lnTo>
                  <a:lnTo>
                    <a:pt x="358" y="115"/>
                  </a:lnTo>
                  <a:lnTo>
                    <a:pt x="411" y="154"/>
                  </a:lnTo>
                  <a:lnTo>
                    <a:pt x="415" y="175"/>
                  </a:lnTo>
                  <a:lnTo>
                    <a:pt x="411" y="197"/>
                  </a:lnTo>
                  <a:lnTo>
                    <a:pt x="384" y="244"/>
                  </a:lnTo>
                  <a:lnTo>
                    <a:pt x="380" y="265"/>
                  </a:lnTo>
                  <a:lnTo>
                    <a:pt x="381" y="283"/>
                  </a:lnTo>
                  <a:lnTo>
                    <a:pt x="402" y="295"/>
                  </a:lnTo>
                  <a:lnTo>
                    <a:pt x="425" y="290"/>
                  </a:lnTo>
                  <a:lnTo>
                    <a:pt x="434" y="270"/>
                  </a:lnTo>
                  <a:lnTo>
                    <a:pt x="440" y="292"/>
                  </a:lnTo>
                  <a:lnTo>
                    <a:pt x="440" y="310"/>
                  </a:lnTo>
                  <a:lnTo>
                    <a:pt x="427" y="342"/>
                  </a:lnTo>
                  <a:lnTo>
                    <a:pt x="432" y="368"/>
                  </a:lnTo>
                  <a:lnTo>
                    <a:pt x="457" y="378"/>
                  </a:lnTo>
                  <a:lnTo>
                    <a:pt x="485" y="371"/>
                  </a:lnTo>
                  <a:lnTo>
                    <a:pt x="504" y="344"/>
                  </a:lnTo>
                  <a:lnTo>
                    <a:pt x="515" y="368"/>
                  </a:lnTo>
                  <a:lnTo>
                    <a:pt x="518" y="405"/>
                  </a:lnTo>
                  <a:lnTo>
                    <a:pt x="490" y="467"/>
                  </a:lnTo>
                  <a:lnTo>
                    <a:pt x="475" y="545"/>
                  </a:lnTo>
                  <a:lnTo>
                    <a:pt x="448" y="582"/>
                  </a:lnTo>
                  <a:lnTo>
                    <a:pt x="401" y="607"/>
                  </a:lnTo>
                  <a:lnTo>
                    <a:pt x="317" y="621"/>
                  </a:lnTo>
                  <a:lnTo>
                    <a:pt x="355" y="591"/>
                  </a:lnTo>
                  <a:lnTo>
                    <a:pt x="378" y="552"/>
                  </a:lnTo>
                  <a:lnTo>
                    <a:pt x="385" y="528"/>
                  </a:lnTo>
                  <a:lnTo>
                    <a:pt x="385" y="498"/>
                  </a:lnTo>
                  <a:lnTo>
                    <a:pt x="371" y="481"/>
                  </a:lnTo>
                  <a:lnTo>
                    <a:pt x="357" y="478"/>
                  </a:lnTo>
                  <a:lnTo>
                    <a:pt x="331" y="482"/>
                  </a:lnTo>
                  <a:lnTo>
                    <a:pt x="330" y="485"/>
                  </a:lnTo>
                  <a:lnTo>
                    <a:pt x="313" y="487"/>
                  </a:lnTo>
                  <a:lnTo>
                    <a:pt x="287" y="481"/>
                  </a:lnTo>
                  <a:lnTo>
                    <a:pt x="317" y="464"/>
                  </a:lnTo>
                  <a:lnTo>
                    <a:pt x="325" y="435"/>
                  </a:lnTo>
                  <a:lnTo>
                    <a:pt x="301" y="382"/>
                  </a:lnTo>
                  <a:lnTo>
                    <a:pt x="283" y="361"/>
                  </a:lnTo>
                  <a:lnTo>
                    <a:pt x="277" y="332"/>
                  </a:lnTo>
                  <a:lnTo>
                    <a:pt x="297" y="292"/>
                  </a:lnTo>
                  <a:lnTo>
                    <a:pt x="254" y="305"/>
                  </a:lnTo>
                  <a:lnTo>
                    <a:pt x="231" y="332"/>
                  </a:lnTo>
                  <a:lnTo>
                    <a:pt x="225" y="361"/>
                  </a:lnTo>
                  <a:lnTo>
                    <a:pt x="228" y="384"/>
                  </a:lnTo>
                  <a:lnTo>
                    <a:pt x="241" y="424"/>
                  </a:lnTo>
                  <a:lnTo>
                    <a:pt x="244" y="455"/>
                  </a:lnTo>
                  <a:lnTo>
                    <a:pt x="221" y="488"/>
                  </a:lnTo>
                  <a:lnTo>
                    <a:pt x="193" y="490"/>
                  </a:lnTo>
                  <a:lnTo>
                    <a:pt x="185" y="480"/>
                  </a:lnTo>
                  <a:lnTo>
                    <a:pt x="187" y="460"/>
                  </a:lnTo>
                  <a:lnTo>
                    <a:pt x="185" y="435"/>
                  </a:lnTo>
                  <a:lnTo>
                    <a:pt x="173" y="422"/>
                  </a:lnTo>
                  <a:lnTo>
                    <a:pt x="160" y="392"/>
                  </a:lnTo>
                  <a:lnTo>
                    <a:pt x="145" y="441"/>
                  </a:lnTo>
                  <a:lnTo>
                    <a:pt x="145" y="470"/>
                  </a:lnTo>
                  <a:lnTo>
                    <a:pt x="168" y="499"/>
                  </a:lnTo>
                  <a:lnTo>
                    <a:pt x="180" y="519"/>
                  </a:lnTo>
                  <a:lnTo>
                    <a:pt x="173" y="532"/>
                  </a:lnTo>
                  <a:lnTo>
                    <a:pt x="153" y="532"/>
                  </a:lnTo>
                  <a:lnTo>
                    <a:pt x="133" y="509"/>
                  </a:lnTo>
                  <a:lnTo>
                    <a:pt x="113" y="561"/>
                  </a:lnTo>
                  <a:lnTo>
                    <a:pt x="127" y="595"/>
                  </a:lnTo>
                  <a:lnTo>
                    <a:pt x="173" y="621"/>
                  </a:lnTo>
                  <a:lnTo>
                    <a:pt x="160" y="621"/>
                  </a:lnTo>
                  <a:lnTo>
                    <a:pt x="138" y="621"/>
                  </a:lnTo>
                  <a:lnTo>
                    <a:pt x="86" y="605"/>
                  </a:lnTo>
                  <a:lnTo>
                    <a:pt x="38" y="571"/>
                  </a:lnTo>
                  <a:lnTo>
                    <a:pt x="11" y="514"/>
                  </a:lnTo>
                  <a:lnTo>
                    <a:pt x="10" y="502"/>
                  </a:lnTo>
                  <a:lnTo>
                    <a:pt x="0" y="464"/>
                  </a:lnTo>
                  <a:lnTo>
                    <a:pt x="0" y="438"/>
                  </a:lnTo>
                  <a:lnTo>
                    <a:pt x="0" y="412"/>
                  </a:lnTo>
                  <a:lnTo>
                    <a:pt x="8" y="382"/>
                  </a:lnTo>
                  <a:lnTo>
                    <a:pt x="17" y="405"/>
                  </a:lnTo>
                  <a:lnTo>
                    <a:pt x="23" y="431"/>
                  </a:lnTo>
                  <a:lnTo>
                    <a:pt x="38" y="445"/>
                  </a:lnTo>
                  <a:lnTo>
                    <a:pt x="36" y="427"/>
                  </a:lnTo>
                  <a:lnTo>
                    <a:pt x="38" y="401"/>
                  </a:lnTo>
                  <a:lnTo>
                    <a:pt x="64" y="367"/>
                  </a:lnTo>
                  <a:lnTo>
                    <a:pt x="76" y="347"/>
                  </a:lnTo>
                  <a:lnTo>
                    <a:pt x="78" y="322"/>
                  </a:lnTo>
                  <a:lnTo>
                    <a:pt x="64" y="281"/>
                  </a:lnTo>
                  <a:lnTo>
                    <a:pt x="56" y="243"/>
                  </a:lnTo>
                  <a:lnTo>
                    <a:pt x="63" y="208"/>
                  </a:lnTo>
                  <a:lnTo>
                    <a:pt x="97" y="158"/>
                  </a:lnTo>
                  <a:lnTo>
                    <a:pt x="96" y="188"/>
                  </a:lnTo>
                  <a:lnTo>
                    <a:pt x="101" y="224"/>
                  </a:lnTo>
                  <a:lnTo>
                    <a:pt x="123" y="255"/>
                  </a:lnTo>
                  <a:lnTo>
                    <a:pt x="168" y="281"/>
                  </a:lnTo>
                  <a:lnTo>
                    <a:pt x="164" y="258"/>
                  </a:lnTo>
                  <a:lnTo>
                    <a:pt x="194" y="188"/>
                  </a:lnTo>
                  <a:lnTo>
                    <a:pt x="210" y="155"/>
                  </a:lnTo>
                  <a:lnTo>
                    <a:pt x="210" y="125"/>
                  </a:lnTo>
                  <a:lnTo>
                    <a:pt x="191" y="91"/>
                  </a:lnTo>
                  <a:lnTo>
                    <a:pt x="175" y="61"/>
                  </a:lnTo>
                  <a:lnTo>
                    <a:pt x="177" y="33"/>
                  </a:lnTo>
                  <a:lnTo>
                    <a:pt x="195" y="3"/>
                  </a:lnTo>
                  <a:lnTo>
                    <a:pt x="194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415640" y="3111120"/>
              <a:ext cx="106560" cy="181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33000" rIns="5733000" tIns="-2685240" bIns="-2685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ase Study:  Our DI 3.1 – WDI 3.2 Migration “flight plan”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veloping your Migration Flight Pla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816200" y="1022400"/>
          <a:ext cx="5205240" cy="50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022400"/>
                    <a:ext cx="5205240" cy="50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mpleting your Migration Plan 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 – Assess your Business and e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3 – Define your migration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4 - Determine your migration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5 – Develop an incremental migra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6 – Execute your Migration plan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b6b3"/>
                </a:solidFill>
                <a:latin typeface="Arial"/>
              </a:rPr>
              <a:t>Step 7 – Begin Leveraging WDI in a eBusiness Centric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7880" y="1707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Questions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&amp;</a:t>
            </a:r>
            <a:br>
              <a:rPr sz="7200"/>
            </a:br>
            <a:r>
              <a:rPr b="1" lang="en-US" sz="7200" spc="-1" strike="noStrike">
                <a:solidFill>
                  <a:srgbClr val="7889fb"/>
                </a:solidFill>
                <a:latin typeface="Arial"/>
              </a:rPr>
              <a:t>Answers</a:t>
            </a:r>
            <a:endParaRPr b="0" lang="en-US" sz="72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WDI 3.2 Migration Flight Plan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…. The Goals are the sa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of our Migration “pre-flight”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readiness Overview (our “air worthiness” che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gration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6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Study:  Our DI 3.1 – WDI 3.2 Migration “flight pla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What’s keeping CIO’s up at night in 2003?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:  CIO’s  top 14 spending prior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ntegrating systems and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Lowering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Strategic planning/aligning IT and busines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Implementing data security and privacy mea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Automating/optimizing the supply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nabling/enhancing e-comme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business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/leveraging intellectu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management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External business-to-consumer customer service/relationship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training/education/satisf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ing new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ff development/re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95000"/>
              </a:lnSpc>
              <a:spcBef>
                <a:spcPts val="51"/>
              </a:spcBef>
              <a:spcAft>
                <a:spcPts val="16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IT global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ource: CIO Magazine Apr 1, 200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Business Goals…..remain the same……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oals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Costs / Increase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hieving the Go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/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corpo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functional business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complexity = lower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reliability and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Seizing the BIG opportunity…. </a:t>
            </a:r>
            <a:br>
              <a:rPr sz="1600"/>
            </a:b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What if you could…..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in addressing ALL of the TOP 7 priorities of your C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of the TOP 10 CIO’s priorit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come the “epi-center” of the “second phase” of ebusines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 integ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ly – Customers and suppl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ibute to your corporation’s ROI within 12 months!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THE key component of the #1 corporate business challeng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Review: Migration Pre-Flight Plan Checklist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351080"/>
            <a:ext cx="750096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Taking Inventory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M DataInterchange 3.1 – Administ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s / Network Top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ion/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-Systems / Application Trans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pplication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3840" y="666360"/>
            <a:ext cx="8929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readiness Overview…(looking for “air worthiness exceptions) 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63720" y="1223640"/>
            <a:ext cx="734832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Business Initi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rdware/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 / Platform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Application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Bases Uti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88"/>
              </a:spcBef>
              <a:spcAft>
                <a:spcPts val="88"/>
              </a:spcAft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889fb"/>
                </a:solidFill>
                <a:latin typeface="Arial"/>
              </a:rPr>
              <a:t>Migration Pre-Flight Plan Checklist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3720" y="10839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ronmental / Business Applications Architectur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99"/>
              </a:spcBef>
              <a:spcAft>
                <a:spcPts val="99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or and Application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35120" y="1677960"/>
          <a:ext cx="7067520" cy="45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677960"/>
                    <a:ext cx="7067520" cy="45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Environmental / Business Applications Architectures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498760" y="957240"/>
          <a:ext cx="38322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8760" y="957240"/>
                    <a:ext cx="38322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7:57Z</dcterms:modified>
  <cp:revision>871</cp:revision>
  <dc:subject/>
  <dc:title>IBM Software Group</dc:title>
</cp:coreProperties>
</file>