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D9C20-A9C2-43BF-9EF8-95760C1BF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2A0B-06BE-4454-8E6C-B13F5DB3D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C2999-3281-4E9A-B203-8699A9965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CD46-E06B-48E6-A9B4-D964B9BE7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7927-6CE1-4AD1-8E0B-A27B66F4E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6D31-E62A-4133-A800-2D6DC5427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ED6F-9B00-4E7F-85B8-89E9C14AD9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8EB91-0D4E-4A36-B028-B694C849E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979DF-F65A-4987-93FB-3AD8FFADD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475F-3B8E-4CE0-8467-F2F55B2D7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53FE-32D2-4FCA-97BE-A2BAEE0C9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EA00-E1E5-48FD-BBD4-563F4D7C2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E22B-626E-425D-A4D7-9E0774E2A30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040"/>
            <a:ext cx="5587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General Discussion</a:t>
            </a:r>
            <a:r>
              <a:rPr b="0" lang="en-US" sz="16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ession will be a general discussion on HIPAA and how you are implementing your HIPAA trans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special case, lets talk about it and help you find an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for others affected by HIPAA, just as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3T22:24:15Z</dcterms:modified>
  <cp:revision>856</cp:revision>
  <dc:subject/>
  <dc:title>IBM Software Group</dc:title>
</cp:coreProperties>
</file>