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A26F-33F3-477B-A514-DF9189B8F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B04D2-2595-4587-AEDA-9A3F917CF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8DEB1-930E-429A-8DD9-886B04258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B09E2-89E4-49DC-9AFF-FA35EAAB1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7F1C-4E83-44C2-B4C8-F2BE7A76E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347F1-EA28-4686-B9DD-12DD92C51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64B70-025F-4148-97FC-813913AE2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6105-628B-4F40-B835-ABAD67B7D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718F-82BC-494C-9914-E5D65EE14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7896-97E0-42B8-BEA3-D214174A8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339E-87BA-415E-8C10-4EDFF3E05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627F-26CD-4728-A3FA-FCFB944B1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96EC-A868-47B5-ABB9-37F1B04E6CC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3520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cryption and Security</a:t>
            </a:r>
            <a:br>
              <a:rPr sz="32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nny Robb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439040" y="3057480"/>
            <a:ext cx="1009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key (symmetric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sender and receiver both have a single key that both encrypts and decrypts a document.  Used for bulk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/Private(Asymmetric)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keys are required to encrypt and decrypt a document.  The partners publish and exchange the public keys and the private keys remain secret.  Used for key encryp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825480" y="993600"/>
          <a:ext cx="7677000" cy="498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993600"/>
                    <a:ext cx="767700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hods of encryp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27120" y="571680"/>
          <a:ext cx="8373960" cy="56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71680"/>
                    <a:ext cx="837396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e Data Signatur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R (Non Repudi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es to the sender that the receiver of a message did receive the messag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o the sender the integrity of the message recei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O (Non Repudiation of Orig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e identity of the sen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Verifies that the contents of the document have not been alt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-INT AS1 and AS2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Simple Mail Transfer Protocol (SMT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ecures/encrypts data with Secure Multipurpose Internet Messaging Extensions (S/MIME) or Pretty Good Privacy (PGP) metho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d when S/MIME is the only available transport and transactions are relatively s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ses Hypertext Transfer Protocol or Secured Hypertext Transfer Protocol (HTTP or HTTP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lows object oriented signatures on both object and s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S2 enabled products: Cyclone, webMethods, TIBC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Table of Cont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EDI-INT and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layered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hange encry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signatu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of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e Data Sig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: AS1 and A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-INT (EDI over the Internet)  - A set of standards that define a common method for sending EDI messages over the internet.  EDI-INT provides guidelines for encryption, decryption and confirmations of transactions through Message Disposition Notification (MD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on - is the transformation of data, using algorithms, into a form that is unreadable by anyone who does not have the key to decryp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Techniques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1 (Applicability Statement 1) - Internet email security that uses SMTP(Simple Mail Transfer Protocol) for delivering S/MIME encrypted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2 (Applicability Statement 2) - Internet email security that uses HTTP and HTTP/S for delivering S/MIME encrypted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MIME  (Secure Multipurpose Internet Messaging Extension) - Provides encryption and digital signatures for Internet mail messag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 (Pretty Good Privacy) - Data security using X.509 or PGP methods for key exchange and management as well as encryp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ecurity Protocol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FTP (Secure File Transfer Protocol) - enables the encryption of login information and file transfer over F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N (Virtual Private Network) - enables private networks to span from the end-user, across a public network (Internet) directly to the  home gateway of choice, another companies Intran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H (Secure Shell) - establishes a secure tunnel between two systems for enablement of a secure transport layer via encryption, cryptographic host authentication and integrity prot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 (Secure Hypertext Transfer Protocol) - enables the transfer of documents between serv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L (Secure Socket Layer) - a program layer that secures  the message transmission between two applications. (HTTP and FTP transmission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Application message - business purchas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EDI translator - EDI 850 X12 standar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MTP - S/MIME message sent via FTP, HTTP, HTT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5) TCP/IP - Standard internet service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ternet Layered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55680" y="968400"/>
          <a:ext cx="638352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5680" y="968400"/>
                    <a:ext cx="63835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terchange encryption process - To ensure confidential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2400" y="1226880"/>
            <a:ext cx="734868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or - EDI 850 X12 standard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s the interchange to s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secures the EDI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randomly generates a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rypts the interchange with the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ymmetric key is encrypted using the trading partner 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encloses the payload in a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Sends the S/MIME envelope to the trading partner over the 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secured EDI 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/MIME envelope is rem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rading partner uses private key (Asymmetric) to decrypt the received symmetr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symmetric key is used to decrypt the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gital signature process - To ensure integrity, authentication and non repudiation of ori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326960"/>
            <a:ext cx="7348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generates a message digest to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sender private key (Asymmetric)  to encrypt the message 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included in the S/MIME envel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Internet handler - receives the message di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encrypted message digest is extracted from the S/MIME envelop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ses the public key (Asymmetric) of the sender to decrypt the message digest (this is when the sender is identifie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Generates a new message digest from the decrypted inter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The two message digest are compared to check the integrity of the inter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3-08-27T18:10:21Z</cp:lastPrinted>
  <dcterms:modified xsi:type="dcterms:W3CDTF">2003-09-17T17:51:06Z</dcterms:modified>
  <cp:revision>918</cp:revision>
  <dc:subject/>
  <dc:title>IBM Software Group</dc:title>
</cp:coreProperties>
</file>