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461A-49FF-4A97-8764-FD7CF3E51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D8B45-BA80-4CF7-9AB5-AE9E8EF81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D73D-312C-484C-AF4D-137A3AC8F8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DC5C-57A2-4646-ABE7-88BC82651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D5BE-7401-4F35-B1B3-3C3CBC541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8B2C9-60D6-4B85-96F4-C2DAA5B8C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E7799-28AB-4044-B467-981A1DFE8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974E8-5906-4A1E-95E5-AEA9E5407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5A920-2D10-4955-A590-FC283C630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6656-7394-461F-B1A1-F921171D5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AE95-7D9A-41A9-8B18-6081DA26C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C6A1-1A6A-4DE9-930F-A31E07A78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EB6F-A613-4472-A081-C664921A069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227320"/>
            <a:ext cx="86040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Control – We Have a Problem…E-Notification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aig Farney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35680" y="3479760"/>
            <a:ext cx="20257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71680" y="11808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Condition Code i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rading Partner not found, set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Invalid Data, set code t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x, set code t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Translator-Generated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ap Not Found, bypass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Missing Mandatory Element, continue and Log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ndition Code &lt; 4, Successful Transl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ndition Code &gt; x, perform or do not perform nex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o Process Log during each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0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3360" y="11664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s reach of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about it w/o having to look at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to be a programmer to find out what happe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upply more detailed and customized content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eliver other informa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7040" y="11664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 Techniq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rocesses that are dedicated to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= x, execute notification process 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Condition Code &lt; y, execute notification process 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notification processes before or after certain process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Translation step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on completion, send 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can be used to generate content of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us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e process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97 Reports / Late No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7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rogate DI PRTFILE for Translation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567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61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5440" y="11361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I –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e / operator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nt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Application to view Process Not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ail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 Control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67960" y="1776240"/>
            <a:ext cx="7193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Error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n-zero return code has been issued by job E4JLB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review each non-zero job step to determine if this is just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rning or an actual err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776240"/>
            <a:ext cx="8643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Status Re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llowing are the summary totals and dollars by trading partn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tner Name             Total Invoices   Total         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ANK OF AMERIC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6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$205,620.44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RAL MOTORS                18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$152.25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135,077.27      ACCEP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ACCEP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14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$1,340,849.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REJECTED--------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                $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4800" y="1776240"/>
            <a:ext cx="8126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997 Late No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TENTION: GENERAL MO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r records indicate the following Functional Acknowledgements (FA997s) have not been received for the invoice (811) transac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you have not retrieved your invoices within the last 7 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do so.  Should you be experiencing any problems, ple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act us.  We will be happy to assist y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Invoices sent on May 22,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A/GS CONTROL NUMBERS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TAL NO INVOICES SENT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MUNICATIONS METHOD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NTH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y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26960" y="1319040"/>
            <a:ext cx="7988400" cy="46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160" y="1288800"/>
            <a:ext cx="824724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JCL for DI PRTFILE error progr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Until E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 DI PRT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0 = ‘Message: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os 15 not = TR040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0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3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1045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error message and code to Process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program condition code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44440" y="1669680"/>
            <a:ext cx="74851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Email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EMCNTL-REC.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KEY.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ID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CORD-SEQ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9(9).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EMAIL-ADDRESS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EMCNTL-THE-REST-GEN.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PARTNER-NAME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ISA-ID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15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BILLING-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4)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EMCNTL-REPORT-NAM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20).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FILLER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5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light Control We Have a Problem...E-Notification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2157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why to explore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E-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s and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4800" y="1287000"/>
            <a:ext cx="81108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ding Partner Control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  TPCNTRL-RE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K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  TPCNTRL-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COMM-METHO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CD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CD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DIRECT-CONNECT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DIR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EMAIL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EML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FTP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FTP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VAN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VAN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PTNR-EMAIL-ADDR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3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END-FILE-READY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997-LATE-EMAI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STAT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8  TPCNTRL-IN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'I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  TPCNTRL-INACTIVATE-D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 X(0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2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10628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human intervention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reduc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eaction tim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 can be addressed before someone gets around to looking a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ata more quickly and comply with Service Level Agre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1200" y="1150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V – Adva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ed re-run and correction Techni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invalid or incomplete data to a ‘recycle’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containing details of what was recycled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‘recycle’ file during normal process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has been corrected it will be processed next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email when ‘recycle’ file has been successfully pro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Email and Trading Partner Contro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cycle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processing for JUL03 had rejected transactions do to incomplete FTP Set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ollowing FTP files were placed on ho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Re-run Email No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FTP reprocessing job E4JEFTPS released the following files from FTP hold and distributed them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05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4.P.EDIFTP.JUL03.T133251.T93 - sent to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hallenges and Opportunit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e line between too much, and too little informa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want an Email System that also does E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ous levels of d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communications vs. External commun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communicate the right information to the right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5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3720" y="16257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0" lang="en-US" sz="7200" spc="-1" strike="noStrike">
                <a:solidFill>
                  <a:srgbClr val="7889fb"/>
                </a:solidFill>
                <a:latin typeface="Arial"/>
              </a:rPr>
              <a:t> 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asons Why to Explore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a better way to be notified of Production Job / Process Failures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be proactive in reacting to minor failur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manual process controls and audits that could be automate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isparate / Multip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deliver information to many people - some may not have access to cor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 (S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s of E-Notif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active instead of re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ingle interface for problem determination /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time needed to solve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istorical audit of system / process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tag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2920" y="1463760"/>
            <a:ext cx="200628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 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83000" y="1447920"/>
            <a:ext cx="189540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60920" y="1447920"/>
            <a:ext cx="19508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38840" y="1447920"/>
            <a:ext cx="2006640" cy="44956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7889fb"/>
              </a:gs>
            </a:gsLst>
            <a:lin ang="10800000"/>
          </a:gra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ge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c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utomated re-run and corr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7720" y="1967040"/>
            <a:ext cx="4253040" cy="606240"/>
          </a:xfrm>
          <a:custGeom>
            <a:avLst/>
            <a:gdLst>
              <a:gd name="textAreaLeft" fmla="*/ 664560 w 4253040"/>
              <a:gd name="textAreaRight" fmla="*/ 3721680 w 4253040"/>
              <a:gd name="textAreaTop" fmla="*/ 151560 h 606240"/>
              <a:gd name="textAreaBottom" fmla="*/ 454680 h 606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Tahoma"/>
              </a:rPr>
              <a:t>Volume /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760" y="56160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rmation about each step exec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r Single Process Lo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run statistics / performance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s process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s warnings or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Historical 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704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Name/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proc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Records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ning / Error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or Outp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RTFILE / FFSEX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Date/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976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4320" y="1166760"/>
            <a:ext cx="88992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 - Ba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Log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***********************************************************************************************************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START DT: 07/23/03  START TM: 11:06:04 JOB: E4JFARXS (TEST&amp;PRO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APPED RECORDS REA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33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DER RECORDS DROPP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0007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S PROCESSED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1026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PED RECORDS WRITTEN 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0009290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WRAP/CONVERT EDI FILE   - FAAL         PROGRAM: E4UNWR02     END  DT: 07/23/03  END  TM: 11:06:06  RECS PROC:      1337  RETN CODE: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760" y="54576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xamples of E-Notif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7040" y="11822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II – Seco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Hand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process flow by using conditi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/ bypass steps when certain condition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s basic O/S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written to Process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2:11Z</dcterms:modified>
  <cp:revision>959</cp:revision>
  <dc:subject/>
  <dc:title>IBM Software Group</dc:title>
</cp:coreProperties>
</file>