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D5A1-F935-4C23-AE11-E818034C2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84CA-C567-4AC3-94D0-D5DE664A1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B427-ED41-4E4B-BFEF-82EADD0A8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3984-1FFC-444E-B93B-E8A439C8E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120F-A621-498C-805E-0363872EC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6EDD-DC68-42C5-A6F7-2EC7A299A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4FBB-7794-49AE-AF40-138EB448D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CFB97-CFE0-4AE3-83D8-05D9B3D40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C862-D652-4F73-B785-FB1096784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4D91-9678-45C0-BFC9-18511B7C1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2A74-1984-4311-AA4B-D270843AF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E6F0-F7A4-4170-B54E-67C3B9ABC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32DB-4AA1-4CC5-B5C0-1669671AE0E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Integration Competency Ce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DI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2240" y="1892160"/>
            <a:ext cx="55879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from the Flight Deck</a:t>
            </a:r>
            <a:br>
              <a:rPr sz="16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uck Fer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44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jo Communic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46640" y="2419200"/>
            <a:ext cx="1009800" cy="1285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46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Ollie Ollie O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40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Monte Pythons Flying Transac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760" y="3225960"/>
            <a:ext cx="558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E-Data Movers and Shak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Global Data Ex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5520" y="3236760"/>
            <a:ext cx="5587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r Data Exchange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76440" y="1379520"/>
            <a:ext cx="5958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858960" y="1219320"/>
            <a:ext cx="3597120" cy="36687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840200" y="1579680"/>
            <a:ext cx="3598920" cy="3252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875160" y="4862520"/>
            <a:ext cx="309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Compre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 with 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62880" y="4862520"/>
            <a:ext cx="3333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Expanded data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Less expensive start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Flex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 Black"/>
                <a:ea typeface="Arial"/>
              </a:rPr>
              <a:t>Read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at to keep an eye 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1276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Security/Encry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 Black"/>
                <a:ea typeface="Arial"/>
              </a:rPr>
              <a:t>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9680" y="3121200"/>
            <a:ext cx="261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  <a:ea typeface="Arial"/>
              </a:rPr>
              <a:t>Question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Burlington Northern Santa Fe Railway Company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es one of the largest railroad networks in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,000 Route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ing 28 States and two Canadian Provi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vers the western two thirds of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more Intermodal equipment then any other Railroad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's largest grain-hauling railr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uls enough coal to generate more than 10 percent of the electricity produced in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s approximately 38,000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approximately a million transactions every 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WebServic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2280" y="112392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22560" y="256392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7720" y="257796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75320" y="256392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52" name=""/>
          <p:cNvCxnSpPr>
            <a:stCxn id="147" idx="3"/>
            <a:endCxn id="148" idx="1"/>
          </p:cNvCxnSpPr>
          <p:nvPr/>
        </p:nvCxnSpPr>
        <p:spPr>
          <a:xfrm>
            <a:off x="2453760" y="291888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3" name=""/>
          <p:cNvCxnSpPr>
            <a:stCxn id="148" idx="3"/>
            <a:endCxn id="150" idx="1"/>
          </p:cNvCxnSpPr>
          <p:nvPr/>
        </p:nvCxnSpPr>
        <p:spPr>
          <a:xfrm>
            <a:off x="4132440" y="291888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4" name=""/>
          <p:cNvCxnSpPr>
            <a:stCxn id="150" idx="3"/>
            <a:endCxn id="149" idx="1"/>
          </p:cNvCxnSpPr>
          <p:nvPr/>
        </p:nvCxnSpPr>
        <p:spPr>
          <a:xfrm>
            <a:off x="5784840" y="2918880"/>
            <a:ext cx="519840" cy="900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55" name=""/>
          <p:cNvCxnSpPr>
            <a:stCxn id="146" idx="3"/>
            <a:endCxn id="148" idx="0"/>
          </p:cNvCxnSpPr>
          <p:nvPr/>
        </p:nvCxnSpPr>
        <p:spPr>
          <a:xfrm flipH="1">
            <a:off x="3564720" y="1856880"/>
            <a:ext cx="10440" cy="685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56" name=""/>
          <p:cNvSpPr/>
          <p:nvPr/>
        </p:nvSpPr>
        <p:spPr>
          <a:xfrm>
            <a:off x="3032280" y="3697200"/>
            <a:ext cx="1087200" cy="711360"/>
          </a:xfrm>
          <a:prstGeom prst="flowChartMagneticDisk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ogg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4460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22560" y="5137200"/>
            <a:ext cx="10875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6588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75320" y="5137200"/>
            <a:ext cx="1085760" cy="71100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2" name=""/>
          <p:cNvCxnSpPr>
            <a:stCxn id="157" idx="3"/>
            <a:endCxn id="158" idx="1"/>
          </p:cNvCxnSpPr>
          <p:nvPr/>
        </p:nvCxnSpPr>
        <p:spPr>
          <a:xfrm>
            <a:off x="2453760" y="5492520"/>
            <a:ext cx="5464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3" name=""/>
          <p:cNvCxnSpPr>
            <a:stCxn id="158" idx="3"/>
            <a:endCxn id="160" idx="1"/>
          </p:cNvCxnSpPr>
          <p:nvPr/>
        </p:nvCxnSpPr>
        <p:spPr>
          <a:xfrm>
            <a:off x="4132440" y="5492520"/>
            <a:ext cx="52128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4" name=""/>
          <p:cNvCxnSpPr>
            <a:stCxn id="160" idx="3"/>
            <a:endCxn id="159" idx="1"/>
          </p:cNvCxnSpPr>
          <p:nvPr/>
        </p:nvCxnSpPr>
        <p:spPr>
          <a:xfrm>
            <a:off x="5780160" y="5492520"/>
            <a:ext cx="567360" cy="1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5" name=""/>
          <p:cNvCxnSpPr>
            <a:stCxn id="156" idx="3"/>
            <a:endCxn id="158" idx="0"/>
          </p:cNvCxnSpPr>
          <p:nvPr/>
        </p:nvCxnSpPr>
        <p:spPr>
          <a:xfrm flipH="1">
            <a:off x="3564720" y="4430880"/>
            <a:ext cx="10440" cy="68472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66" name=""/>
          <p:cNvSpPr/>
          <p:nvPr/>
        </p:nvSpPr>
        <p:spPr>
          <a:xfrm>
            <a:off x="6365880" y="3505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65880" y="4351320"/>
            <a:ext cx="1085760" cy="69696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ternal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pplic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6" idx="1"/>
            <a:endCxn id="160" idx="3"/>
          </p:cNvCxnSpPr>
          <p:nvPr/>
        </p:nvCxnSpPr>
        <p:spPr>
          <a:xfrm flipH="1">
            <a:off x="5779800" y="3854160"/>
            <a:ext cx="567360" cy="1639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169" name=""/>
          <p:cNvCxnSpPr>
            <a:stCxn id="167" idx="1"/>
            <a:endCxn id="160" idx="3"/>
          </p:cNvCxnSpPr>
          <p:nvPr/>
        </p:nvCxnSpPr>
        <p:spPr>
          <a:xfrm flipH="1">
            <a:off x="5779800" y="4700160"/>
            <a:ext cx="567360" cy="793080"/>
          </a:xfrm>
          <a:prstGeom prst="straightConnector1">
            <a:avLst/>
          </a:prstGeom>
          <a:ln w="38160">
            <a:solidFill>
              <a:srgbClr val="7889fb"/>
            </a:solidFill>
            <a:miter/>
            <a:headEnd len="sm" type="stealth" w="sm"/>
            <a:tailEnd len="sm" type="stealth" w="sm"/>
          </a:ln>
        </p:spPr>
      </p:cxnSp>
      <p:sp>
        <p:nvSpPr>
          <p:cNvPr id="170" name=""/>
          <p:cNvSpPr/>
          <p:nvPr/>
        </p:nvSpPr>
        <p:spPr>
          <a:xfrm>
            <a:off x="7410240" y="3584520"/>
            <a:ext cx="180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Ti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Maintain Conn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XML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6320" y="120168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Tradi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8400" y="378936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Web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112920" y="1584360"/>
            <a:ext cx="190044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112920" y="1932120"/>
            <a:ext cx="4224600" cy="1473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12920" y="2282760"/>
            <a:ext cx="2187720" cy="112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112920" y="2552760"/>
            <a:ext cx="3090960" cy="852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112920" y="2822040"/>
            <a:ext cx="4224600" cy="5828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2920" y="3405240"/>
            <a:ext cx="2187720" cy="1000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12920" y="3405240"/>
            <a:ext cx="2803680" cy="906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341960" y="2822040"/>
            <a:ext cx="2995560" cy="2124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B2B Connectivity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1880" y="3502080"/>
          <a:ext cx="845028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3502080"/>
                    <a:ext cx="845028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880" y="1044720"/>
          <a:ext cx="8104320" cy="24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880" y="1044720"/>
                    <a:ext cx="8104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511920" y="32338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Van F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2280" y="86040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haracter 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1047600" cy="1043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192400" y="3121200"/>
            <a:ext cx="92052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37520" y="1392120"/>
            <a:ext cx="57600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1336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16600" y="10447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7520" y="2552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90600" y="494676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ter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00640" y="19321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03880" y="228276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00640" y="3289320"/>
            <a:ext cx="57636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4800" y="332568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3313080"/>
            <a:ext cx="67464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12920" y="1584360"/>
            <a:ext cx="2803680" cy="18208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16600" y="4119480"/>
            <a:ext cx="920880" cy="384120"/>
          </a:xfrm>
          <a:prstGeom prst="flowChartProcess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966000" y="3828600"/>
            <a:ext cx="658800" cy="4827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91480" y="4019400"/>
            <a:ext cx="576360" cy="54000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66000" y="4311720"/>
            <a:ext cx="658800" cy="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66000" y="4311720"/>
            <a:ext cx="700200" cy="635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778880" y="4676760"/>
            <a:ext cx="576000" cy="53964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24080" y="3505320"/>
            <a:ext cx="828720" cy="14414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75120" y="477360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as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75120" y="438948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3320" y="515772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5120" y="5541840"/>
            <a:ext cx="1228680" cy="384120"/>
          </a:xfrm>
          <a:prstGeom prst="flowChartProcess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ame 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41960" y="3828600"/>
            <a:ext cx="958680" cy="11178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341960" y="2552760"/>
            <a:ext cx="1861920" cy="20066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1960" y="1931760"/>
            <a:ext cx="2995560" cy="257148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341960" y="2282400"/>
            <a:ext cx="958680" cy="304812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341960" y="1584000"/>
            <a:ext cx="671400" cy="363204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341960" y="2976480"/>
            <a:ext cx="3149280" cy="256536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1960" y="4389120"/>
            <a:ext cx="1535040" cy="1344600"/>
          </a:xfrm>
          <a:prstGeom prst="line">
            <a:avLst/>
          </a:prstGeom>
          <a:ln w="38160">
            <a:solidFill>
              <a:srgbClr val="7889f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6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5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6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52303"/>
                                      </p:to>
                                    </p:animClr>
                                    <p:set>
                                      <p:cBhvr>
                                        <p:cTn id="67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 Securit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22360" y="2430360"/>
            <a:ext cx="73486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G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F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ol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l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EDIF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C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TRAI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Fla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 Black"/>
              </a:rPr>
              <a:t>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520" y="54936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Data Trans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889fb"/>
                </a:solidFill>
                <a:latin typeface="Arial"/>
              </a:rPr>
              <a:t>Views from the Flight Deck,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ata Transformation (CSV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538280" y="1325520"/>
            <a:ext cx="6451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26T15:51:16Z</dcterms:modified>
  <cp:revision>881</cp:revision>
  <dc:subject/>
  <dc:title>IBM Software Group</dc:title>
</cp:coreProperties>
</file>