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4AF4-CF0A-44D6-A2DD-325C19F0A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FD90F-3BBB-4367-85FD-DA1D4A006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6727-3D62-4E7C-9061-61C1B0564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2151-49EF-4A50-A0A0-BCFF0048B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8531-3E17-43C9-8883-DFA0B5BAF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0676-3EA1-4998-BA73-2F159475F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0A1D-7278-46B4-9679-7BE30E8CD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FA37-DEFB-4F06-8ABE-073500894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CCC5-CB08-41C1-B2D7-472DE8F88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369D-DAB5-4D7F-A7B1-9722516BF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0138-6C93-4F96-B9DA-23DC6A428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22A3-F6D4-4BB1-9C10-F608E6382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oaring into the Future –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8028-11E8-4FB7-BE9E-061DB117F61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238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let this happen to you – Client Migration Tips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 System Administrator, 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.  Be Prepared and Have a Plan!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Setting Up the Environment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 z/OS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User, Client-server, All DB2 for M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Connect as 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5112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7CCE-C3FA-4DDC-BA4E-0DB25676ED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z/OS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:  z/OS 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upgraded to 64 bit proces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100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upgrade to z/0S 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ware:  DB2 Connect Version 7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oolkit Version 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B77F-C979-4B4D-BA0D-D32CADFD1B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2743200"/>
            <a:ext cx="1981440" cy="914400"/>
            <a:chOff x="380880" y="2743200"/>
            <a:chExt cx="1981440" cy="914400"/>
          </a:xfrm>
        </p:grpSpPr>
        <p:sp>
          <p:nvSpPr>
            <p:cNvPr id="172" name=""/>
            <p:cNvSpPr/>
            <p:nvPr/>
          </p:nvSpPr>
          <p:spPr>
            <a:xfrm>
              <a:off x="380880" y="2743200"/>
              <a:ext cx="198144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89584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Interchange Cli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2860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464832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3809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34290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200400"/>
            <a:ext cx="1676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 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838080"/>
            <a:ext cx="2819520" cy="3886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1219320"/>
            <a:ext cx="2133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198108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SO Attach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981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39625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unTime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8168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VS or 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261936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ddleware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29718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038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5627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556272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stTi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2895480"/>
            <a:ext cx="1143000" cy="914400"/>
          </a:xfrm>
          <a:prstGeom prst="flowChartMagneticDisk">
            <a:avLst/>
          </a:prstGeom>
          <a:solidFill>
            <a:srgbClr val="7889f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E05C-96A0-4715-87FA-8368A8E3DE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Middleware:  DB2Connect Version 7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66294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 for multi-user environment working with DataInterchange Client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“up”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is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2023920" cy="299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8EA9-C472-4E78-ABCD-8D73581B03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ACF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invokes RACF to determine access to 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NT user privileges to the DB2/MVS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SELECT, INSERT, UPDATE and DELETE privileges on subset of tables in our test environment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for RunTime and CustTime databas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y DataInterchang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ly had multiple RACF profiles defined by project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olidation of profiles to user’s a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7582-FD81-4834-B18C-8A311D6607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Toolkit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45259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3.1 - requires XML Toolkit version 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pward compatibility with later versions of the toolk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already upgraded to version 1.2 of the XML Toolkit. Therefore not able to use the XML Toolkit at this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762360" cy="351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959E-6723-45BC-8E71-F6D0934734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3.  Be Adaptabl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Host to DI Client Migr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50292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differences between host and client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tables EDIPSDI and EDITPCM reside in both RunTime and CustTime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to note that once converted to the Client, a transaction must be maintained on th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convention changes for DataInterchange Client 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independent browser-based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I Client 3.1 installed on PC or lap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19920" y="2057400"/>
            <a:ext cx="2673360" cy="375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D0B7-3FC2-4AC5-89FB-F69A162864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UNTIME vs. CUSTTIME databas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60501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e create the  CUSTTIME client format database in a separate database from the RUNTIME database on the ho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ed with migration to DI 4.1 and single databas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ually, only logical groups of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pt in one database but used separate high level qualif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172200" y="2971800"/>
            <a:ext cx="2571840" cy="262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73876-DEFA-4A82-8BC5-2AE612F395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B2 Connect Logi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Client login requires two entries of TSO id and password due to the two databases being connect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TIME as MVS hos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TIME as client format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 the temptation to hard-code the TSO id and password into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CBA1-B8CA-46AE-8DC7-23E1E2BB0D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4.  Assess The Risk and Be Proactive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DI Client Deployment)</a:t>
            </a:r>
            <a:br>
              <a:rPr sz="2400"/>
            </a:b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52880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 login using DI Client 3.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s the “cach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2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sswords updated or changed on the mainframe are properly reflected within the ODBC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two complete DataInterchange Client 3.1 subsystems within our lab environments for testing of PTF’s and regular RSU mainten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19320"/>
            <a:ext cx="2409840" cy="25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60F3-C5E6-4DBC-8DDB-AE45F34873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1 U.S. Life Insurer  -  $2.4 trillion life insurance in-for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of 12/31/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st non-medical provider of institutional employe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nefits to 37 million employees and family members through their plan sponsors and 88 of Fortune 100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ed #1 in most group product areas - life, dental, auto and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, and long-term care; and the #1 commercial dental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-   approximately 12 million individuals in the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77200">
              <a:spcBef>
                <a:spcPts val="876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- 8 million customers in 1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83808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EDE6-4174-4692-A7B8-BFD2B3F378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sion Issu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end-users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Client 3.1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convert existing Maps, as n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onverted, must be updated and maintained in DI Cli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CEA0-B4DF-4E03-90C7-4D9D3D6F58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5.  Enjoy The Ride 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Future Direc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12760" y="1776240"/>
            <a:ext cx="54403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Server Pack 1.4 include WebSphere Data Interchange V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house and being installed in one of the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ransformation using WDI 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310068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FAAE-98AA-441A-84C6-302237405A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 the risk and be pro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A45E-5387-4FB4-BCB6-378F19816E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- DI Client 3.1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C2050-DA7D-4D71-8159-00B8FBBD98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Insurance and Financial Services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dividu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planning, life insurance, annuities, long-term care, disability, mutual funds and secu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itutional 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retirement and savings, group non-medical health (e.g., short- and long-term disability, long-term care, dental) and voluntary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 Op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insurance, accident and health, annuities, retirement and savings, automobile and homeowner’s insur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t Managemen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tual funds, separate accounts and real estat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 &amp; Hom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obile, homeowner’s, boat, excess liability and miscellaneous personal lines property and casualty 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nsuranc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 reinsurance, facultative and automatic, as well as financial re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212400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C8B9D-A417-4B84-B385-60BB5DAE59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on’t Let This Happen To You - Client Migration Tip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0DFE-A3CE-4024-8BB7-D4FFE8D902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4600" y="6858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Survival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02320" y="286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71800" y="685800"/>
            <a:ext cx="2743200" cy="49528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31240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Migration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up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Host to DI Client 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Client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5238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1295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your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21337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Prepared and Have a Plan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4894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3260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dap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43434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114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 the Risk and Be Proacti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51814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joy the Ride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5334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62332-4081-45C7-B08C-6091FF5BEA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1.  Know Your Environmen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    (Client Migration Overview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the Cl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sta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we ar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11F19-814A-4E2B-8897-7A2485E240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y Use The Client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PAA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computing power of the main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have multiple systems up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MetLife for the move to Web Sphere Data Interchange 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010280" y="533520"/>
            <a:ext cx="1295640" cy="39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F3AC-BCE0-4CDB-BA07-80FE354DC4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Started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612612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MVS System 2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DB2 Subsystems config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2.1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eed of several levels of maintenance and PTF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4016160" cy="394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A947-F315-4D83-A5A8-A310650800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here We Are Toda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/OS MVS System - 01.0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Version 7 environ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DB2 Sub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Lab environ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22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Interchange 3.1 - on Host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on all maintenance and PTF’s to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685800"/>
            <a:ext cx="4219560" cy="395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66BE-AB0A-4D3E-98C1-6600CF086B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3:49:33Z</dcterms:created>
  <dc:creator>MetLife</dc:creator>
  <dc:description/>
  <dc:language>en-US</dc:language>
  <cp:lastModifiedBy>IBM_USER</cp:lastModifiedBy>
  <cp:lastPrinted>2003-08-19T18:25:27Z</cp:lastPrinted>
  <dcterms:modified xsi:type="dcterms:W3CDTF">2003-09-17T17:35:07Z</dcterms:modified>
  <cp:revision>54</cp:revision>
  <dc:subject/>
  <dc:title>WebSphere Data Interchange  Soaring Into the Future</dc:title>
</cp:coreProperties>
</file>