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34F-1AEE-40E6-AAFF-026FC2834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DA1C-E379-4F09-82DB-EA26481F6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0CFE-D065-46DA-B198-2D9E12B60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AF0C-FB8F-4C27-8FFA-147801E0F3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638BD-01E6-4C66-B3E4-1FFDB7AC2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EC18-F804-4D71-9F19-57E0B544C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7C89-7DCB-4A46-A62D-E6226FB03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5117-413C-4156-B692-381D91ABE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6532-12E0-45BC-A6DB-7F48E7455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40F8-4642-475F-A9B8-09BE47E61E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CBA6-0ABD-4447-875D-86B908F59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925D-D536-46F7-AE3B-61DA2215D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5C6C-9492-4C2D-B7A6-EC461799E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06C6-762C-455D-9A16-BD83482A09D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figure Your Client For Vers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lient Preference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P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s how the system is going to look to you each time you log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of each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62520" y="2019240"/>
          <a:ext cx="3598920" cy="34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2019240"/>
                    <a:ext cx="359892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User Field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14000" y="1053720"/>
            <a:ext cx="6310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 Profiles User F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-&gt; Custom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izes the field id of the last tab on the TP Profi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2809800"/>
          <a:ext cx="6459480" cy="32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809800"/>
                    <a:ext cx="6459480" cy="32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Installing a second WDI database and running it.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ing to review the changes needed to set up another WDI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used to set up other systems for Test, QA,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consult the terms of your licensing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sep through this process during the de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t following files: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CONNECT TO EDIEC32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DIEC2E to something meaningfull for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bind\bindgrnt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grnt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loadcsd1.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ediec32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ixf\loadec32.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1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4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loadcsd5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server32\ddl\csd6.d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Follow the latest Readme.txt file through all csd commands.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issuing the commands, make sure EDIEC32E is the same as the name you changed in the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reate db 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 times in file  ALT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nect Client to the new databas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Client to the new database through View -&gt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on command files to use the new datab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plan in the wdi.properties file used by M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way you run, the database you connect to will be determined by the Plan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7:53:29Z</dcterms:modified>
  <cp:revision>857</cp:revision>
  <dc:subject/>
  <dc:title>IBM Software Group</dc:title>
</cp:coreProperties>
</file>