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640B-953C-45D4-9D64-13711D2D2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8F3B-D1E1-4B25-96DE-3DEE9EE81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9DB0-A880-4977-BB07-38097C144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4D20-97F5-4305-BFAD-34B438900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7A63-36DA-4311-B2FC-A2378FD0C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9CC6-FFD8-40FE-924E-73B3FE63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87F8-3BDE-4F9C-AEF5-27E70BF1A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97E7-6D9F-4EEF-888A-F32A47468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E199A-7D4B-4005-8CB3-F6759E36B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0122-01D1-4F2B-96DD-B74D6DBFB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ACCF-5047-4D39-8E5B-A1B2474A3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6E47-B0C0-4E06-AC5A-20808C420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8A5F-DA81-4008-8A57-66449ED4455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2240" y="2084400"/>
            <a:ext cx="5295600" cy="19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</a:t>
            </a:r>
            <a:br>
              <a:rPr sz="24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aring Into the Future</a:t>
            </a:r>
            <a:br>
              <a:rPr sz="1800"/>
            </a:br>
            <a:br>
              <a:rPr sz="1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verview/Reasons to move to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run translation on your own PC - makes testing SO much easier!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place W2K server on laptop or deskt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ing a breez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DT mapping offers more functions than traditional send/receive mapping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1852560" cy="390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C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65560" y="1770120"/>
            <a:ext cx="2514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Emp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1668600"/>
            <a:ext cx="2438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Comp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Le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mR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hoice of target or source based mapping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or Target based mapping allows you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hard to determine at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concert maps from Target to Source or Source to Targ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upport ends for v3.1 Dec, 2004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for DI 3.1 was announced to complete on Dec.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True Data Format to Data Format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F to DF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a DF to be converted to a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irect EDI Standard to EDI Standard Transform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EDI to EDI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XML DTD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XM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DTD definition of the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ly required double trans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Insert Commands Between Segment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ng commands between segments or elements to get force an operation or assignment based on a specific location of processing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will be executed if the segment is there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 Segments or Loops must be available to process the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Ability to Comment Maps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mapping comm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 groups to m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add comments to the map ov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xpanded Conditional process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functions available for conditio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Comp, StrCompI, StrCompN, StrCompNI, Find,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uble Qoutes used to compare character strigs – “str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Qoutes used to compare numeric fields – ‘12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and Chaining using MQSeries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2400" y="1273320"/>
            <a:ext cx="73486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Chaining using MQSeries allows processing to continue after each step if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d by any file being written to, if there is a Service Profile with that same name, it will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have to use the file that triggers it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tart a totally  differen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Simplified HL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d HL mapping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hi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 the remaining fields based on how you identified the parent/child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plex Qualification Mapping Suppor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fied mapping can be done by Occurrence, Value, or Expr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s of these can also be used to achieve the desired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asy to Use Mapping Command Editor 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 in creating mapping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– click menus allow all mapping commands and functions to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nd function formats are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can be double clicked so that dragging and dropping of commands can be completed easily and acu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easily combined to get the desired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edictable mapping command execu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3160" y="182700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commands are executed in the order that they are listed in the mapping command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selecting Source or Target based mapping, you control the output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Insert Within, Insert After, Insert Before and dragging and droping your commands in different order, you can achieve desired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RFH2 Header Access from the Mapper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Property  to retreive th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operty to se the Target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capability with WMQI using the MCD profile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D profiles available to load MQ h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profiles and processing handled from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Integration with TPI / Cyclone using EDICYCL Network program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ntegration to Cyclone Interchange to drop data on a queue and pass it in to 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Common database for server and client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Database for Server and Client allows ease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systems areas involved in the installation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ny to Any mapping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M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nd improved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 us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mmands and functions available at a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Validation Mapping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customer to create validation maps to confirm a set of business logic in a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reate 997’s as appropriate if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et validation level errors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Better Traces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2400" y="941040"/>
            <a:ext cx="734868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ifies mapping problem defini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l = the tracing lev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race messages ar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c = component to be trac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veloper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ation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 tracing. Only the first 256 byes of data in the buffer are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ed tracing. The entire contents of the buffer is written to the trace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dhillary</cp:lastModifiedBy>
  <dcterms:modified xsi:type="dcterms:W3CDTF">2003-09-26T15:44:35Z</dcterms:modified>
  <cp:revision>860</cp:revision>
  <dc:subject/>
  <dc:title>IBM Software Group</dc:title>
</cp:coreProperties>
</file>