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EC4C-29C8-4933-9CEC-5124F0968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2924-F308-492D-BC3A-497D2F7BC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E406-D4C5-4ABE-8E12-E3A240152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7529-EE1C-4863-9C4B-7159B091E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EE51-A6BA-49B8-87F6-A2B7A17A4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3D383-7DC9-4A5A-B020-D9409ABAB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40E7-5C9F-4FA5-A556-4413DD95C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3BA6-AE5E-4D38-B4DC-26DCF863F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6273-02BB-451C-9103-926ADE5C5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8F5AF-47F2-49E0-A7D2-19290BD80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3130-BE5E-4917-989A-3B5699CC9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43B9-69B6-456A-8B6C-17D3644B3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165C-EF5B-4EB5-A277-0EA754039CA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2728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Messaging Solutions </a:t>
            </a:r>
            <a:br>
              <a:rPr sz="2400"/>
            </a:br>
            <a:br>
              <a:rPr sz="1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d Blankenship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eau of Customs and Border Protectio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Idiosyncras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eg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Special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utomated Re-Send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Leve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articipation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ertification and Testing Req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 Turn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Outage Sche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P Automated Re-Se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elp Desk / Tech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Trading Partners’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 Implementation Guide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stablish Ground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Group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ssage Ver/release(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elimi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mission Size Lim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ntax Compliance Le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ta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pplication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 Design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ackup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f Work and Synch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Message 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ngle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ple Targ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Logging in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ecovery / Restart / Re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F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as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ulti-th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con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030400" y="2563560"/>
            <a:ext cx="447048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ustoms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14480" y="13410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 a Typical Day 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4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.S. Customs Service examines 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.3 Million Passen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0,000 Trucks/Contai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48,000 Vehic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00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600 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effects the following enforcement a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65 Arr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8 Narcotics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28 Other Seizures (Conveyances, Ammunition, Commercial Merchandise, Real Estate, Firearms and Weapons, Child Pornograp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1 Currency Seiz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889fb"/>
                </a:solidFill>
                <a:latin typeface="Arial"/>
              </a:rPr>
              <a:t>A Day in the Life of Customs</a:t>
            </a: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1370160"/>
            <a:ext cx="22464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02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Environment - Trade,  Enforcement, EDW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 - 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MQ S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Translatio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Forma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X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N/Edif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Fixed - Proprie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2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31496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46520" y="3149640"/>
            <a:ext cx="1371600" cy="1295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1800" y="1346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6880" y="18795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38760" y="1320840"/>
            <a:ext cx="1447920" cy="1447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A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74920" y="4826160"/>
            <a:ext cx="1447920" cy="12189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EC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00800" y="36068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0640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52124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4600" y="25653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4600" y="3251160"/>
            <a:ext cx="1371600" cy="7621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654280" y="1905120"/>
            <a:ext cx="4114080" cy="533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725480" y="4141440"/>
            <a:ext cx="92880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3003480"/>
            <a:ext cx="110628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41480" y="2446200"/>
            <a:ext cx="136044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19400" y="1925640"/>
            <a:ext cx="151272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5880" y="4987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2768760"/>
            <a:ext cx="6094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1960" y="5384880"/>
            <a:ext cx="320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X Server Fa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s Internal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35160" y="30733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4880" y="1244520"/>
            <a:ext cx="609480" cy="533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57840" y="1981080"/>
            <a:ext cx="239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M MVS OS390 zOS Enterprise Serv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9880" y="3962520"/>
            <a:ext cx="1371600" cy="7617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GA’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7360" y="3597120"/>
            <a:ext cx="941400" cy="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- CICS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Proces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Demand Load Bal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-Plex - 24x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-Dataco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665440" y="51735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65440" y="4094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5440" y="3027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2214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Trade Systems Communic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63760" y="4686480"/>
            <a:ext cx="243864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 U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53080" y="1714680"/>
            <a:ext cx="2210040" cy="38811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65640" y="3695760"/>
            <a:ext cx="243828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dicated L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 - 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63760" y="2705040"/>
            <a:ext cx="2438640" cy="990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65640" y="1714680"/>
            <a:ext cx="2438280" cy="9903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Q Frame Re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38360"/>
            <a:ext cx="2209680" cy="39337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-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Messaging Solu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30240" y="1649160"/>
            <a:ext cx="527688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is gu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tim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 do it at Cus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Processing Architecture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Q Series -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Messaging Solution - Internal/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 Independence /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Transl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Tas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MQ Frame Relay Topograph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1480" y="2913120"/>
            <a:ext cx="1857240" cy="1895040"/>
            <a:chOff x="2211480" y="2913120"/>
            <a:chExt cx="1857240" cy="189504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2211480" y="2913120"/>
              <a:ext cx="185724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033000" y="3258360"/>
              <a:ext cx="18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614680" y="3205080"/>
            <a:ext cx="93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l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pri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1496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19920" y="132084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86600" y="28447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4673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867280" y="238716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42163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3759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880" y="16272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288288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1652760" y="4027320"/>
            <a:ext cx="531720" cy="2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9400" y="3524400"/>
            <a:ext cx="482760" cy="12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41720" y="3751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7620120" y="4063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391520" y="246384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160" y="4168800"/>
            <a:ext cx="1371600" cy="99072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2480" y="2401920"/>
            <a:ext cx="725760" cy="63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06360" y="5019840"/>
            <a:ext cx="1371600" cy="990360"/>
          </a:xfrm>
          <a:prstGeom prst="ellipse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82760" y="4500360"/>
            <a:ext cx="273240" cy="30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Environ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nty-Two CICS EDI Translatio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oftware - E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Host MVS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 “HOT” DI Shop Since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37000" y="1806480"/>
            <a:ext cx="693720" cy="19814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(EDI Server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43320" y="1801800"/>
            <a:ext cx="2274840" cy="16606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05400" y="1749600"/>
            <a:ext cx="17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1240" y="3022560"/>
            <a:ext cx="2244600" cy="836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r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44400" y="2332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ed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9320" y="1812960"/>
            <a:ext cx="693720" cy="1952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83440" y="235584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w Ap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371304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96080" y="518004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53240" y="445140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05000" y="3951360"/>
            <a:ext cx="1074600" cy="447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920" y="528948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54360" y="4619520"/>
            <a:ext cx="1074600" cy="447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01320" y="530388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7040" y="2263680"/>
            <a:ext cx="1219320" cy="914400"/>
          </a:xfrm>
          <a:prstGeom prst="flowChartDocumen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1080" y="4863960"/>
            <a:ext cx="1074600" cy="1111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820800" y="3236760"/>
            <a:ext cx="1440" cy="13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38440" y="2581200"/>
            <a:ext cx="82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92960" y="2604960"/>
            <a:ext cx="63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262560" y="3282840"/>
            <a:ext cx="1067040" cy="15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5800" y="3435480"/>
            <a:ext cx="31608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103960" y="3146400"/>
            <a:ext cx="111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430280" y="3110040"/>
            <a:ext cx="1800" cy="71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87960" y="194616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8400" y="2846520"/>
            <a:ext cx="164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844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Typical Application Interfac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8640" y="1952640"/>
            <a:ext cx="18525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03360" y="2752560"/>
            <a:ext cx="1741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*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V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587760" y="1951200"/>
            <a:ext cx="69372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87960" y="1946160"/>
            <a:ext cx="118404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40080" y="291924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6196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5260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50040" y="1944720"/>
            <a:ext cx="655560" cy="3554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EDI Translation Gateway - Export System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48640" y="1927080"/>
            <a:ext cx="1852560" cy="35816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9540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9540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9540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540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576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39520" y="1951200"/>
            <a:ext cx="119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19680" y="3189240"/>
            <a:ext cx="534960" cy="306360"/>
            <a:chOff x="5719680" y="3189240"/>
            <a:chExt cx="534960" cy="306360"/>
          </a:xfrm>
        </p:grpSpPr>
        <p:sp>
          <p:nvSpPr>
            <p:cNvPr id="310" name=""/>
            <p:cNvSpPr/>
            <p:nvPr/>
          </p:nvSpPr>
          <p:spPr>
            <a:xfrm>
              <a:off x="5719680" y="31892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97520" y="344304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97520" y="339228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97520" y="334152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97520" y="329076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705640" y="4059360"/>
            <a:ext cx="534960" cy="306360"/>
            <a:chOff x="5705640" y="4059360"/>
            <a:chExt cx="534960" cy="306360"/>
          </a:xfrm>
        </p:grpSpPr>
        <p:sp>
          <p:nvSpPr>
            <p:cNvPr id="316" name=""/>
            <p:cNvSpPr/>
            <p:nvPr/>
          </p:nvSpPr>
          <p:spPr>
            <a:xfrm>
              <a:off x="5705640" y="40593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883480" y="43131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83480" y="42624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83480" y="42116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883480" y="41608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740560" y="4946760"/>
            <a:ext cx="534960" cy="306360"/>
            <a:chOff x="5740560" y="4946760"/>
            <a:chExt cx="534960" cy="306360"/>
          </a:xfrm>
        </p:grpSpPr>
        <p:sp>
          <p:nvSpPr>
            <p:cNvPr id="322" name=""/>
            <p:cNvSpPr/>
            <p:nvPr/>
          </p:nvSpPr>
          <p:spPr>
            <a:xfrm>
              <a:off x="5740560" y="494676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75" y="0"/>
                  </a:lnTo>
                  <a:lnTo>
                    <a:pt x="75" y="192"/>
                  </a:lnTo>
                  <a:lnTo>
                    <a:pt x="261" y="192"/>
                  </a:lnTo>
                  <a:lnTo>
                    <a:pt x="261" y="0"/>
                  </a:lnTo>
                  <a:lnTo>
                    <a:pt x="33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18400" y="520056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8400" y="5149800"/>
              <a:ext cx="179640" cy="180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18400" y="509904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18400" y="5048280"/>
              <a:ext cx="17964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107040" y="3160800"/>
            <a:ext cx="25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Raw EDI Image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37360" y="3938760"/>
            <a:ext cx="23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Application Data Que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262200" y="4973760"/>
            <a:ext cx="243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606"/>
                </a:solidFill>
                <a:latin typeface="Times New Roman"/>
              </a:rPr>
              <a:t>Warning Messages Que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19200" y="486576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19200" y="4094280"/>
            <a:ext cx="2151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04800" y="3336840"/>
            <a:ext cx="21513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95440" y="2584440"/>
            <a:ext cx="215100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19520" y="1957320"/>
            <a:ext cx="693720" cy="355464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Translation Gateway - AMS Appli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1571760"/>
            <a:ext cx="5257800" cy="44956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2800" y="561024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CS Mainframe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952640"/>
            <a:ext cx="4190760" cy="3581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38240" y="2409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38240" y="317196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38240" y="3933720"/>
            <a:ext cx="1295640" cy="60984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38240" y="4695840"/>
            <a:ext cx="1295640" cy="6094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6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1876320"/>
            <a:ext cx="1249200" cy="37339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50000">
                <a:srgbClr val="66ffff"/>
              </a:gs>
              <a:gs pos="100000">
                <a:srgbClr val="7889fb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2880" y="1952640"/>
            <a:ext cx="45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Manifest System Applic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94240" y="3009960"/>
            <a:ext cx="693720" cy="250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091200" y="3011400"/>
            <a:ext cx="1401480" cy="2514600"/>
            <a:chOff x="6091200" y="3011400"/>
            <a:chExt cx="1401480" cy="2514600"/>
          </a:xfrm>
        </p:grpSpPr>
        <p:sp>
          <p:nvSpPr>
            <p:cNvPr id="347" name=""/>
            <p:cNvSpPr/>
            <p:nvPr/>
          </p:nvSpPr>
          <p:spPr>
            <a:xfrm>
              <a:off x="6091200" y="3011400"/>
              <a:ext cx="1401480" cy="2514600"/>
            </a:xfrm>
            <a:prstGeom prst="rect">
              <a:avLst/>
            </a:prstGeom>
            <a:gradFill rotWithShape="0">
              <a:gsLst>
                <a:gs pos="0">
                  <a:srgbClr val="7889fb"/>
                </a:gs>
                <a:gs pos="50000">
                  <a:srgbClr val="66ffff"/>
                </a:gs>
                <a:gs pos="100000">
                  <a:srgbClr val="7889fb"/>
                </a:gs>
              </a:gsLst>
              <a:lin ang="5400000"/>
            </a:gradFill>
            <a:ln w="12600">
              <a:solidFill>
                <a:srgbClr val="0606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1200" y="3620880"/>
              <a:ext cx="1319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EDI Translation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60606"/>
                  </a:solidFill>
                  <a:latin typeface="Times New Roman"/>
                </a:rPr>
                <a:t>Gatewa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7493040" y="3003480"/>
            <a:ext cx="693720" cy="25005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eworthy ……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Translation and Applicati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CIC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&amp; Post Translate Images Available to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ed Copies of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thru MQMD-Ms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ends &amp; “Hot Stuff”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s Modernization e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756720" y="2131920"/>
            <a:ext cx="73486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umés  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 EDI Architectur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468760" y="348624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4480" y="1527120"/>
            <a:ext cx="73483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EDI Gateway Architecture - EDI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Environment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Platforms &amp; Trigger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d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DataInterchange  (DI)  Software &amp;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&amp; EDIFACT Standards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/ No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ding Partner Enab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Frame Relay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Customs’ Middleware/EDI Team Roles and Responsibilities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intai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erver -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Series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(MQ Frame Relay, SNA, Dial, VA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 / Re-Engineer / Tune   EDI Process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oubleshoot Messaging Problems (Internal/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aison to X12  (XML Design eff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 Customs IG Data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pp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64120" y="377820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93760" y="2359080"/>
            <a:ext cx="4475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7280" y="3162240"/>
            <a:ext cx="1303200" cy="21654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84920" y="3357720"/>
            <a:ext cx="1303200" cy="212220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2374920"/>
            <a:ext cx="1612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4221000"/>
            <a:ext cx="636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94080" y="4673520"/>
            <a:ext cx="636840" cy="0"/>
          </a:xfrm>
          <a:prstGeom prst="line">
            <a:avLst/>
          </a:prstGeom>
          <a:ln w="19080">
            <a:solidFill>
              <a:srgbClr val="00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04760" y="1920960"/>
            <a:ext cx="4707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731520"/>
            <a:ext cx="824544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Another Sol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83440" y="1492200"/>
            <a:ext cx="16128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CICS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SQ/TD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EM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- Listen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iggered Batch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racle / DB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Script/Event Trigg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8200" y="154296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ssage Flow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24080" y="2359080"/>
            <a:ext cx="5051160" cy="32367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705040"/>
            <a:ext cx="1249560" cy="214632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Part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2640" y="3170160"/>
            <a:ext cx="1303200" cy="212256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* *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MV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UN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7720" y="4659480"/>
            <a:ext cx="16174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64280" y="4375080"/>
            <a:ext cx="1303200" cy="1430280"/>
          </a:xfrm>
          <a:prstGeom prst="rect">
            <a:avLst/>
          </a:prstGeom>
          <a:gradFill rotWithShape="0">
            <a:gsLst>
              <a:gs pos="0">
                <a:srgbClr val="7889fb"/>
              </a:gs>
              <a:gs pos="100000">
                <a:srgbClr val="66ffff"/>
              </a:gs>
            </a:gsLst>
            <a:lin ang="5400000"/>
          </a:gradFill>
          <a:ln w="12600">
            <a:solidFill>
              <a:srgbClr val="060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E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Transl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606"/>
                </a:solidFill>
                <a:latin typeface="Times New Roman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2920" y="4221000"/>
            <a:ext cx="881280" cy="0"/>
          </a:xfrm>
          <a:prstGeom prst="line">
            <a:avLst/>
          </a:prstGeom>
          <a:ln w="19080">
            <a:solidFill>
              <a:srgbClr val="66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now . 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r Trading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it takes to build a Bulletproof Real-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240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ize &amp; Sc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ystem Critic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latforms / 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vity / Communications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LC - Development thru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esponse-based vs. One-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et(s)  /  Version Releases / DMR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ansaction Size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dleware 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072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14480" y="152676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derstand Your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Syntax Complian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tax Error Tole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 Acknowledg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of Trading Partn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Authentication -  D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22400" y="703080"/>
            <a:ext cx="82454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7889fb"/>
                </a:solidFill>
                <a:uFillTx/>
                <a:latin typeface="Arial"/>
              </a:rPr>
              <a:t>Realtime Architectures - Design Considera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3-09-17T17:45:56Z</dcterms:modified>
  <cp:revision>895</cp:revision>
  <dc:subject/>
  <dc:title>IBM Software Group</dc:title>
</cp:coreProperties>
</file>